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9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Img"/>
          </p:nvPr>
        </p:nvSpPr>
        <p:spPr>
          <a:xfrm>
            <a:off x="1255680" y="718920"/>
            <a:ext cx="48024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0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 type="sldNum" idx="11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88E57AA-E2AD-4F54-9E84-1F9596055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A5AD566-DEE3-4F05-813A-4E00144F5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DBB82FA-8B8D-4564-8373-7E40935D4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2400" cy="36003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769722F-76B1-4C59-88D5-11CAA0BB264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A39-C7DE-4551-A0E4-982307B2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F6F-2B47-42DB-9570-DE0FCDF6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2F4-42A1-4CCE-AF44-93835339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CE0-C1F8-4EF6-B10F-98F6982A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4C44-E3E8-47F7-B3A4-FC3CB043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5D4F-4790-4AFE-8F2A-1C4072A6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C990-BE03-4051-B233-37C9F590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3B14-92EE-4866-8B77-076A9195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9023-150D-4097-B3E3-2625A78B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F9F0-5A6F-44F6-BAE6-D4F855E5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66A1-CF5D-43CC-B50C-29FD2B83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556-F129-4AB9-8EF2-061E65C4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1ED7-392C-41F5-A620-28670DCF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7FBD-D66E-4AB0-8665-4743BFE4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D84D-B98A-43B3-9B5C-DF2C7A99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1BF2-BEDE-4DE2-AF48-BF9BF22F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8485-D71E-4FAC-8F8E-8F6E9B38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CCF2B-BA96-45F8-8166-24EEB2B58C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49490-C724-4A66-9B48-AFC5758B30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1E30D-E736-4B1F-9F93-282CAEF9E8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359F0-4BBE-4A5D-B0F8-4FE43D1136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ACDF2E-159C-45FA-A3E4-2052E1E16B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45B-C1F6-4079-A689-B6A4B9C8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062F6-0200-410B-9314-872AA1AC27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C92DC-E5C3-4CA6-8FD4-C918CF86B6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9454F7-72EE-46E3-ACDC-3DB79B29D4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6B0B6-A04C-4968-AE7C-3A8633A1E1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A26F8-72B9-4121-ADA5-C9486F82D7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E93A9-EB37-483F-BE65-B5D66D4BCA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99107-9342-43F5-8305-9BF29498A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1B8B-DD7C-4DD0-8EA2-2585F9B2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C0A-F85F-4B35-8011-4F400615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D0FD-E48F-4C5A-8645-9B3B095B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1F3-014D-4BF5-85A0-35A092F8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6A70-1096-4B85-9242-7E36752D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72D-C92C-4FF3-8B96-55ABAF2E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A44B-8D4E-4F7E-ABC0-BCB4B241EB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0FEF-67BD-4D5E-AC95-68A00CBA3A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7"/>
          </p:nvPr>
        </p:nvSpPr>
        <p:spPr>
          <a:xfrm>
            <a:off x="457200" y="632448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© David Kirk/NVIDIA and Wen-mei W. Hwu, 2007-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CE498AL, University of Illinois, Urbana-Champa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DBB0-50CE-4A49-8AA0-43CE69A9E593}" type="slidenum">
              <a:rPr b="0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Introduction to GPGPU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CS 525G – Lecture 3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CUDA Parallel Execution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 Emmanuel Ag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uter Science Dep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orcester Polytechnic Institute (WP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udaDeviceProp Structure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762120" y="1968480"/>
            <a:ext cx="7304040" cy="37908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3"/>
          <p:cNvSpPr/>
          <p:nvPr/>
        </p:nvSpPr>
        <p:spPr>
          <a:xfrm>
            <a:off x="5270760" y="4267080"/>
            <a:ext cx="22611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U card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Straight Arrow Connector 4"/>
          <p:cNvCxnSpPr/>
          <p:nvPr/>
        </p:nvCxnSpPr>
        <p:spPr>
          <a:xfrm flipH="1" flipV="1">
            <a:off x="4494960" y="4114080"/>
            <a:ext cx="76284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udaDeviceProp Structure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35040" y="1752480"/>
            <a:ext cx="7380360" cy="46767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3"/>
          <p:cNvSpPr/>
          <p:nvPr/>
        </p:nvSpPr>
        <p:spPr>
          <a:xfrm>
            <a:off x="5270760" y="4267080"/>
            <a:ext cx="22611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U card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Straight Arrow Connector 5"/>
          <p:cNvCxnSpPr/>
          <p:nvPr/>
        </p:nvCxnSpPr>
        <p:spPr>
          <a:xfrm flipH="1" flipV="1">
            <a:off x="4494960" y="4114080"/>
            <a:ext cx="76284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Querying Device Propertie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? May want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 card name, properties, 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card-dependent program variabl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 declare threads not more th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xThreadsPerBl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program behavior depending on compute cap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 Run certain code sections i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ute capabilit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uda version) is more than 2.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Skeleton Program to Query Device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902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Querying &amp; Listing Device Prop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719360"/>
            <a:ext cx="8610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book.h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 void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DeviceProp  pro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oun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GetDeviceCount( &amp;count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 count; i++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GetDeviceProperties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prop, i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   --- General Information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vice %d ---\n", i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Querying &amp; Listing Device Prop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719360"/>
            <a:ext cx="8610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Name:  %s\n", prop.name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Compute capability:  %d.%d\n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.major, prop.minor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Clock rate:  %d\n", prop.clockRate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Device copy overlap:  "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rop.deviceOverla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Enabled\n"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Disabled\n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6113880" y="4343400"/>
            <a:ext cx="282960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udaMemcpy over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exec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7"/>
          <p:cNvCxnSpPr/>
          <p:nvPr/>
        </p:nvCxnSpPr>
        <p:spPr>
          <a:xfrm flipH="1" flipV="1">
            <a:off x="5181120" y="4419000"/>
            <a:ext cx="915120" cy="153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Querying &amp; Listing Device Prop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Kernel execution timeout :  "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rop.kernelExecTimeoutEnabl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Enabled\n"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Disabled\n"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6035040" y="3048120"/>
            <a:ext cx="24361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kernel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time lim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4"/>
          <p:cNvCxnSpPr/>
          <p:nvPr/>
        </p:nvCxnSpPr>
        <p:spPr>
          <a:xfrm flipH="1" flipV="1">
            <a:off x="6095520" y="2437920"/>
            <a:ext cx="915120" cy="610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Querying &amp; Listing Device Prop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   --- Memory Information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vice %d ---\n", i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Total global mem:  %ld\n",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.totalGlobalMem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Total constant Mem:  %ld\n",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.totalConstMem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Max mem pitch:  %ld\n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.memPitch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Texture Alignment:  %ld\n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.textureAlignment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Querying &amp; Listing Device Prop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   --- MP Information for device %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--\n", i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Multiprocessor count:  %d\n"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.multiProcessorCount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Shared mem per mp:  %ld\n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.sharedMemPerBlock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Registers per mp:  %d\n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.regsPerBlock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Threads in warp:  %d\n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.warpSize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Max threads per block:  %d\n"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.maxThreadsPerBlock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Querying &amp; Listing Device Prop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Max thread dimensions:  (%d, %d, %d)\n"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.maxThreadsDim[0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prop.maxThreadsDim[1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.maxThreadsDim[2]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Max grid dimensions:  (%d, %d,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d)\n"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.maxGridSize[0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prop.maxGridSize[1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.maxGridSize[2]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\n"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5875920" y="5638680"/>
            <a:ext cx="256572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x blocks along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mension of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Straight Arrow Connector 4"/>
          <p:cNvCxnSpPr/>
          <p:nvPr/>
        </p:nvCxnSpPr>
        <p:spPr>
          <a:xfrm flipH="1" flipV="1">
            <a:off x="5105160" y="5485680"/>
            <a:ext cx="76248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4" name="TextBox 5"/>
          <p:cNvSpPr/>
          <p:nvPr/>
        </p:nvSpPr>
        <p:spPr>
          <a:xfrm>
            <a:off x="541800" y="2666880"/>
            <a:ext cx="24469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x threads along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mension o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Straight Arrow Connector 6"/>
          <p:cNvCxnSpPr/>
          <p:nvPr/>
        </p:nvCxnSpPr>
        <p:spPr>
          <a:xfrm flipV="1">
            <a:off x="2514600" y="2361960"/>
            <a:ext cx="91512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Querying GPU De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UDA parallel exec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DA thread 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ad assignment: using blockIdx and thread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llel vector summ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lia set example (A fun examp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Using Device Propertie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book.h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 void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DeviceProp  pro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ev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GetDevice( &amp;dev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ID of current CUDA device:  %d\n", dev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Using Device Propertie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mset( &amp;prop, 0, sizeof( cudaDeviceProp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.major = 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.minor = 3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ChooseDevice( &amp;dev, &amp;prop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ID of CUDA device closest to revis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.3:  %d\n", dev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SetDevice( dev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3"/>
          <p:cNvSpPr/>
          <p:nvPr/>
        </p:nvSpPr>
        <p:spPr>
          <a:xfrm>
            <a:off x="4740120" y="2209680"/>
            <a:ext cx="2768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ro out memory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Straight Arrow Connector 4"/>
          <p:cNvCxnSpPr/>
          <p:nvPr/>
        </p:nvCxnSpPr>
        <p:spPr>
          <a:xfrm flipH="1" flipV="1">
            <a:off x="3962160" y="2056680"/>
            <a:ext cx="76248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2" name="TextBox 3"/>
          <p:cNvSpPr/>
          <p:nvPr/>
        </p:nvSpPr>
        <p:spPr>
          <a:xfrm>
            <a:off x="6492600" y="3287880"/>
            <a:ext cx="2602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GPU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Straight Arrow Connector 6"/>
          <p:cNvCxnSpPr/>
          <p:nvPr/>
        </p:nvCxnSpPr>
        <p:spPr>
          <a:xfrm flipH="1">
            <a:off x="7390800" y="3657240"/>
            <a:ext cx="22932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4" name="TextBox 3"/>
          <p:cNvSpPr/>
          <p:nvPr/>
        </p:nvSpPr>
        <p:spPr>
          <a:xfrm>
            <a:off x="3898800" y="3087720"/>
            <a:ext cx="21862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holder to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matching G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Straight Arrow Connector 11"/>
          <p:cNvCxnSpPr/>
          <p:nvPr/>
        </p:nvCxnSpPr>
        <p:spPr>
          <a:xfrm>
            <a:off x="4876920" y="3722400"/>
            <a:ext cx="1372320" cy="316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6" name="TextBox 3"/>
          <p:cNvSpPr/>
          <p:nvPr/>
        </p:nvSpPr>
        <p:spPr>
          <a:xfrm>
            <a:off x="3581280" y="5907240"/>
            <a:ext cx="25909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urrent device to best matching G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14"/>
          <p:cNvCxnSpPr>
            <a:stCxn id="296" idx="0"/>
          </p:cNvCxnSpPr>
          <p:nvPr/>
        </p:nvCxnSpPr>
        <p:spPr>
          <a:xfrm flipV="1">
            <a:off x="4876560" y="5562000"/>
            <a:ext cx="76680" cy="345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Vector Summ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vector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lement by el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 result in vect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47433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PU Vector Sum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book.h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N   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( int *a, int *b, int *c 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id = 0;    // this is CPU zero, so we start at ze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tid &lt; N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[tid] = a[tid] + b[tid]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d += 1;   // we have one CPU, so we increment by 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PU Vector Sum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 void 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[N], b[N], c[N]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l the arrays 'a' and 'b' on the CP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N; i++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-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[i] = i * 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( a, b, c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PU Vector Sum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isplay the resul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nn-N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N; i++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%d + %d = %d\n", a[i], b[i], c[i] 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Execution on CPU Core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U makes two copies of add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533520" y="2556000"/>
            <a:ext cx="840888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GPU Vector Sum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book.h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N   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_global__ void add( int *a, int *b, int *c 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id = blockIdx.x;    // this thread handl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the data at its thread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tid &lt; 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[tid] = a[tid] + b[tid]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GPU Vector Sum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 void 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[N], b[N], c[N]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dev_a, *dev_b, *dev_c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llocate the memory on the GP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alloc( (void**)&amp;dev_a, N *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(int) )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alloc( (void**)&amp;dev_b, N *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(int) )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alloc( (void**)&amp;dev_c, N *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(int) )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3"/>
          <p:cNvSpPr/>
          <p:nvPr/>
        </p:nvSpPr>
        <p:spPr>
          <a:xfrm>
            <a:off x="2133720" y="58672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daMallo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locates memory on G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Straight Arrow Connector 4"/>
          <p:cNvCxnSpPr>
            <a:stCxn id="314" idx="0"/>
          </p:cNvCxnSpPr>
          <p:nvPr/>
        </p:nvCxnSpPr>
        <p:spPr>
          <a:xfrm flipH="1" flipV="1">
            <a:off x="3656880" y="4876200"/>
            <a:ext cx="343800" cy="991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GPU Vector Sum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l the arrays 'a' and 'b' on the C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N; i++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-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i] = i * 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py the arrays 'a' and 'b' to the G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emcpy( dev_a, a, N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(int), cudaMemcpyHostToDevice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emcpy( dev_b, b, N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(int), cudaMemcpyHostToDevice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Recall: GPU Hello World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book.h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__global__ void kernel( void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 void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kernel&lt;&lt;&lt;1,1&gt;&gt;&gt;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Hello, World!\n"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GPU Vector Sum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&lt;&lt;&lt;N,1&gt;&gt;&gt;( dev_a, dev_b, dev_c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py the array 'c' back from the GPU to C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emcpy( c, dev_c, N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(int), cudaMemcpyDeviceToHost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&lt;&lt;&lt;N,1&gt;&gt;&gt;( dev_a, dev_b, dev_c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traight Connector 4"/>
          <p:cNvSpPr/>
          <p:nvPr/>
        </p:nvSpPr>
        <p:spPr>
          <a:xfrm flipV="1">
            <a:off x="457200" y="4038120"/>
            <a:ext cx="8229600" cy="1800"/>
          </a:xfrm>
          <a:prstGeom prst="line">
            <a:avLst/>
          </a:prstGeom>
          <a:ln w="255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6"/>
          <p:cNvSpPr/>
          <p:nvPr/>
        </p:nvSpPr>
        <p:spPr>
          <a:xfrm>
            <a:off x="613800" y="43434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7"/>
          <p:cNvSpPr/>
          <p:nvPr/>
        </p:nvSpPr>
        <p:spPr>
          <a:xfrm>
            <a:off x="0" y="5410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PU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unction) 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1752480" y="549432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GPU kernel copies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in parall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5715000" y="5562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rnel arg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Straight Arrow Connector 11"/>
          <p:cNvCxnSpPr>
            <a:stCxn id="322" idx="0"/>
          </p:cNvCxnSpPr>
          <p:nvPr/>
        </p:nvCxnSpPr>
        <p:spPr>
          <a:xfrm flipV="1">
            <a:off x="838080" y="4876200"/>
            <a:ext cx="610560" cy="5338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6" name="Straight Arrow Connector 12"/>
          <p:cNvCxnSpPr>
            <a:stCxn id="323" idx="0"/>
          </p:cNvCxnSpPr>
          <p:nvPr/>
        </p:nvCxnSpPr>
        <p:spPr>
          <a:xfrm flipH="1" flipV="1">
            <a:off x="2437920" y="4952520"/>
            <a:ext cx="153360" cy="5421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7" name="Straight Arrow Connector 13"/>
          <p:cNvCxnSpPr>
            <a:stCxn id="324" idx="0"/>
          </p:cNvCxnSpPr>
          <p:nvPr/>
        </p:nvCxnSpPr>
        <p:spPr>
          <a:xfrm flipH="1" flipV="1">
            <a:off x="5333760" y="4952520"/>
            <a:ext cx="1296000" cy="6105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28" name="TextBox 8"/>
          <p:cNvSpPr/>
          <p:nvPr/>
        </p:nvSpPr>
        <p:spPr>
          <a:xfrm>
            <a:off x="3352680" y="54864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threads running  each copy of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Straight Arrow Connector 17"/>
          <p:cNvCxnSpPr>
            <a:stCxn id="328" idx="0"/>
          </p:cNvCxnSpPr>
          <p:nvPr/>
        </p:nvCxnSpPr>
        <p:spPr>
          <a:xfrm flipH="1" flipV="1">
            <a:off x="2895120" y="4952520"/>
            <a:ext cx="1448640" cy="5342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GPU Vector Sum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isplay the resul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N; i++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 "%d + %d = %d\n", a[i], b[i], c[i]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ee the memory allocated on the G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Free( dev_a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Free( dev_b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Free( dev_c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Parallel Copies of Kernels (functions)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rnel Copies run as bl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&lt;&lt;&lt;4,1&gt;&gt;&gt;(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Rectangle 3" descr=""/>
          <p:cNvPicPr/>
          <p:nvPr/>
        </p:nvPicPr>
        <p:blipFill>
          <a:blip r:embed="rId1"/>
          <a:stretch/>
        </p:blipFill>
        <p:spPr>
          <a:xfrm>
            <a:off x="4552920" y="2498760"/>
            <a:ext cx="1792440" cy="873000"/>
          </a:xfrm>
          <a:prstGeom prst="rect">
            <a:avLst/>
          </a:prstGeom>
          <a:ln w="0">
            <a:noFill/>
          </a:ln>
        </p:spPr>
      </p:pic>
      <p:pic>
        <p:nvPicPr>
          <p:cNvPr id="335" name="Rectangle 7" descr=""/>
          <p:cNvPicPr/>
          <p:nvPr/>
        </p:nvPicPr>
        <p:blipFill>
          <a:blip r:embed="rId2"/>
          <a:stretch/>
        </p:blipFill>
        <p:spPr>
          <a:xfrm>
            <a:off x="4552920" y="3486240"/>
            <a:ext cx="1792440" cy="877680"/>
          </a:xfrm>
          <a:prstGeom prst="rect">
            <a:avLst/>
          </a:prstGeom>
          <a:ln w="0">
            <a:noFill/>
          </a:ln>
        </p:spPr>
      </p:pic>
      <p:pic>
        <p:nvPicPr>
          <p:cNvPr id="336" name="Rectangle 8" descr=""/>
          <p:cNvPicPr/>
          <p:nvPr/>
        </p:nvPicPr>
        <p:blipFill>
          <a:blip r:embed="rId3"/>
          <a:stretch/>
        </p:blipFill>
        <p:spPr>
          <a:xfrm>
            <a:off x="4552920" y="4552920"/>
            <a:ext cx="1792440" cy="878040"/>
          </a:xfrm>
          <a:prstGeom prst="rect">
            <a:avLst/>
          </a:prstGeom>
          <a:ln w="0">
            <a:noFill/>
          </a:ln>
        </p:spPr>
      </p:pic>
      <p:pic>
        <p:nvPicPr>
          <p:cNvPr id="337" name="Rectangle 9" descr=""/>
          <p:cNvPicPr/>
          <p:nvPr/>
        </p:nvPicPr>
        <p:blipFill>
          <a:blip r:embed="rId4"/>
          <a:stretch/>
        </p:blipFill>
        <p:spPr>
          <a:xfrm>
            <a:off x="4552920" y="5546880"/>
            <a:ext cx="1792440" cy="873000"/>
          </a:xfrm>
          <a:prstGeom prst="rect">
            <a:avLst/>
          </a:prstGeom>
          <a:ln w="0">
            <a:noFill/>
          </a:ln>
        </p:spPr>
      </p:pic>
      <p:sp>
        <p:nvSpPr>
          <p:cNvPr id="338" name="TextBox 10"/>
          <p:cNvSpPr/>
          <p:nvPr/>
        </p:nvSpPr>
        <p:spPr>
          <a:xfrm>
            <a:off x="6406920" y="27432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1"/>
          <p:cNvSpPr/>
          <p:nvPr/>
        </p:nvSpPr>
        <p:spPr>
          <a:xfrm>
            <a:off x="6406920" y="36576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2"/>
          <p:cNvSpPr/>
          <p:nvPr/>
        </p:nvSpPr>
        <p:spPr>
          <a:xfrm>
            <a:off x="6406920" y="48006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6406920" y="57913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4"/>
          <p:cNvSpPr/>
          <p:nvPr/>
        </p:nvSpPr>
        <p:spPr>
          <a:xfrm>
            <a:off x="533520" y="487692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blocks (copies) of GPU kerne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 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voked in parallel, 1 thread per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Straight Arrow Connector 15"/>
          <p:cNvCxnSpPr>
            <a:stCxn id="342" idx="0"/>
          </p:cNvCxnSpPr>
          <p:nvPr/>
        </p:nvCxnSpPr>
        <p:spPr>
          <a:xfrm flipH="1" flipV="1">
            <a:off x="1523520" y="4037760"/>
            <a:ext cx="457920" cy="8391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4" name="Straight Arrow Connector 17"/>
          <p:cNvCxnSpPr/>
          <p:nvPr/>
        </p:nvCxnSpPr>
        <p:spPr>
          <a:xfrm flipV="1">
            <a:off x="2666880" y="3962160"/>
            <a:ext cx="1524960" cy="915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Execution on GPU Core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PU makes four copies of add( )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block has different number stor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Idx.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1447920" y="2644920"/>
            <a:ext cx="637056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Julia Set Introduction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te a fractal iteratively using complex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the 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C and compute successive values of 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es to infinity, do successive terms grow larger? Or no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s that don’t diverge are i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Julia 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3048120" y="2971800"/>
                <a:ext cx="19047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Julia Set CPU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book.h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cpu_bitmap.h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DIM 1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uComplex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r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Complex( float a, float b ) : r(a), i(b)  {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magnitude2( void ) { return r * r + i * i;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Julia Set CPU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75212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Complex operator*(const cuComplex&amp; a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cuComplex(r*a.r - i*a.i, i*a.r + r*a.i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Complex operator+(const cuComplex&amp; a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cuComplex(r+a.r, i+a.i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julia( int x, int y ) {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float scale = 1.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jx = scale * (float)(DIM/2 - x)/(DIM/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jy = scale * (float)(DIM/2 - y)/(DIM/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Julia Set CPU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Complex c(-0.8, 0.156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Complex a(jx, jy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0; i&lt;200; i++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a * a + c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a.magnitude2() &gt; 1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Julia Set CPU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kernel( unsigned char *ptr )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y=0; y&lt;DIM; y++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x=0; x&lt;DIM; x++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offset = x + y * DI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juliaValue = julia( x, y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0] = 255 * juliaValu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1] =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2] =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3] = 25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Julia Set CPU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 void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PUBitmap bitmap( DIM, DIM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char *ptr = bitmap.get_ptr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ernel( ptr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itmap.display_and_exit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Recall: Passing Parameters to Kernel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book.h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_global__ void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 int a, int b, int *c ) {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*c = a + b;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 void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dev_c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&lt;1,1&gt;&gt;&gt;( 2, 7, dev_c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5055480" y="3276720"/>
            <a:ext cx="35442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Declare function with arg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4978080" y="4495680"/>
            <a:ext cx="31831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Call function with arg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Straight Arrow Connector 6"/>
          <p:cNvCxnSpPr>
            <a:stCxn id="237" idx="1"/>
          </p:cNvCxnSpPr>
          <p:nvPr/>
        </p:nvCxnSpPr>
        <p:spPr>
          <a:xfrm flipH="1" flipV="1">
            <a:off x="3733560" y="2819160"/>
            <a:ext cx="1296000" cy="627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Straight Arrow Connector 7"/>
          <p:cNvCxnSpPr/>
          <p:nvPr/>
        </p:nvCxnSpPr>
        <p:spPr>
          <a:xfrm flipH="1">
            <a:off x="3351960" y="4622760"/>
            <a:ext cx="1600920" cy="745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Julia Set GPU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book.h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cpu_bitmap.h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DIM 1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uComplex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r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 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Complex( float a, float b ) : r(a), i(b)  {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_device__ float magnitude2( void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 * r + i * 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Julia Set GPU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8600" y="1719360"/>
            <a:ext cx="87631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_device__ cuComplex operator*(const cuComplex&amp; a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cuComplex(r*a.r - i*a.i, i*a.r + r*a.i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_device__ cuComplex operator+(const cuComplex&amp; a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cuComplex(r+a.r, i+a.i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_device__ int julia( int x, int y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float scale = 1.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jx = scale * (float)(DIM/2 - x)/(DIM/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jy = scale * (float)(DIM/2 - y)/(DIM/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Julia Set GPU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Complex c(-0.8, 0.156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Complex a(jx, jy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0; i&lt;200; i++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a * a + c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a.magnitude2() &gt; 1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Julia Set GPU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_global__ void kernel( unsigned char *ptr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ap from blockIdx to pixel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blockIdx.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 = blockIdx.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offset = x + y * gridDim.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ow calculate the value at that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juliaValue = julia( x, y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0] = 255 * juliaValu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1] =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2] =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tr[offset*4 + 3] = 25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Julia Set GPU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globals needed by the update rout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DataBlock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char   *dev_bitma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 void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Block   dat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PUBitmap bitmap( DIM, DIM, &amp;data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char    *dev_bitma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alloc( (void**)&amp;dev_bitmap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itmap.image_size()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.dev_bitmap = dev_bitma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Julia Set GPU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m3    grid(DIM,DIM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ernel&lt;&lt;&lt;grid,1&gt;&gt;&gt;( dev_bitmap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emcpy( bitmap.get_ptr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v_bitmap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itmap.image_size(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MemcpyDeviceToHo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Free( dev_bitmap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itmap.display_and_exit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Julia Set Screenshot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5134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Spawning Multiple Threads Per Block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unching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ck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&lt;&lt;N,1&gt;&gt;(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Second argument in angle brackets is number of threads per bl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So, previously launche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blocks, each wit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blocks x 1 thread/block 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arallel thre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1430280" y="3548160"/>
            <a:ext cx="17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Straight Arrow Connector 4"/>
          <p:cNvCxnSpPr>
            <a:stCxn id="377" idx="0"/>
          </p:cNvCxnSpPr>
          <p:nvPr/>
        </p:nvCxnSpPr>
        <p:spPr>
          <a:xfrm flipV="1">
            <a:off x="2314080" y="2861640"/>
            <a:ext cx="886680" cy="686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79" name="TextBox 8"/>
          <p:cNvSpPr/>
          <p:nvPr/>
        </p:nvSpPr>
        <p:spPr>
          <a:xfrm>
            <a:off x="3505320" y="3548160"/>
            <a:ext cx="24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threads/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Straight Arrow Connector 10"/>
          <p:cNvCxnSpPr>
            <a:stCxn id="379" idx="0"/>
          </p:cNvCxnSpPr>
          <p:nvPr/>
        </p:nvCxnSpPr>
        <p:spPr>
          <a:xfrm flipH="1" flipV="1">
            <a:off x="3504960" y="2861640"/>
            <a:ext cx="1234080" cy="686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alibri"/>
              </a:rPr>
              <a:t>Spawning Multiple Threads Per Block</a:t>
            </a:r>
            <a:endParaRPr b="1" lang="en-US" sz="32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To launc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blocks, each wit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threads, we ca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&lt;&lt;N,M&gt;&gt;(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In previous exampl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blocks  x  1 thread/block   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arallel thre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/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blocks  x  2 threads/block  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arallel thre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/4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blocks  x  4 threads/block  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arallel thre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Or using number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4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blocks  x  1 thread/block   =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4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arallel thre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2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blocks  x  2 threads/block  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4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arallel thre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1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block  x    4 threads/block  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4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arallel thre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UDA Thread Organization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block can spawn multiple thre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cks and thread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0520" indent="-3268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-dimensional indexing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x,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0520" indent="-3268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 threads can oper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0520" indent="-326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different ranges/rows 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0520" indent="-326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 dat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0520" indent="-3268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0520" indent="-326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ad 1: adds row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0520" indent="-326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ad 2 : adds row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0520" indent="-326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ad 3: adds row 3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0520" indent="-326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……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1417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Querying Device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vic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UDA-enabled GP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Querying?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inding out how many devices your machine has and their capabilities/configu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vice properties stored in struc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DevicePr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 query, first decla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DeviceProp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.g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 void ) 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daDeviceProp  pro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n check the structur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rcRect l="14000" t="2667" r="18000" b="18667"/>
          <a:stretch/>
        </p:blipFill>
        <p:spPr>
          <a:xfrm>
            <a:off x="4305240" y="1473120"/>
            <a:ext cx="4762440" cy="5079960"/>
          </a:xfrm>
          <a:prstGeom prst="rect">
            <a:avLst/>
          </a:prstGeom>
          <a:ln w="0">
            <a:noFill/>
          </a:ln>
        </p:spPr>
      </p:pic>
      <p:sp>
        <p:nvSpPr>
          <p:cNvPr id="387" name="Slide Numb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40ED-E4CC-47C5-860B-125815A4FA2E}" type="slidenum">
              <a:rPr b="0" lang="zh-TW" sz="10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Block IDs and Thread ID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thread uses IDs to decide what data to work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4880" indent="-4032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ck ID: 1D or 2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4880" indent="-4032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ad ID: 1D, 2D, or 3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plifies memo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ing when proce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dimensional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4880" indent="-4032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age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4880" indent="-4032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ving PDEs on volu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4880" indent="-4032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3657600" y="2666880"/>
            <a:ext cx="2590920" cy="76320"/>
          </a:xfrm>
          <a:prstGeom prst="line">
            <a:avLst/>
          </a:prstGeom>
          <a:ln w="381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"/>
          <p:cNvSpPr/>
          <p:nvPr/>
        </p:nvSpPr>
        <p:spPr>
          <a:xfrm>
            <a:off x="4267080" y="3124080"/>
            <a:ext cx="1447920" cy="2133720"/>
          </a:xfrm>
          <a:prstGeom prst="line">
            <a:avLst/>
          </a:prstGeom>
          <a:ln w="381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Grids and Block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ltiple blocks grouped into gr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ads in same kernel c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ess same device memory sp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ads in same block can coopera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800" indent="-312840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ynchronize their execu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2800" indent="-312840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fficiently share data through 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2800" indent="-312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 latency </a:t>
            </a:r>
            <a:r>
              <a:rPr b="0" lang="en-US" sz="1600" spc="-1" strike="noStrike">
                <a:solidFill>
                  <a:srgbClr val="00b0f0"/>
                </a:solidFill>
                <a:latin typeface="Calibri"/>
              </a:rPr>
              <a:t>shared mem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2800" indent="-312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hreads in same block C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ooper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hreads in different bl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ANNOT cooperate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5" descr=""/>
          <p:cNvPicPr/>
          <p:nvPr/>
        </p:nvPicPr>
        <p:blipFill>
          <a:blip r:embed="rId1"/>
          <a:stretch/>
        </p:blipFill>
        <p:spPr>
          <a:xfrm>
            <a:off x="5280120" y="1819440"/>
            <a:ext cx="3863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76320" y="1541520"/>
            <a:ext cx="11430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210960" y="1650960"/>
            <a:ext cx="11430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4249800" y="1498680"/>
            <a:ext cx="1143000" cy="114300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4097160" y="1650960"/>
            <a:ext cx="11430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  <a:ea typeface="新細明體"/>
              </a:rPr>
              <a:t>G80 Example: Executing Thread Block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657600" y="2836800"/>
            <a:ext cx="548640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Threads are assigned to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新細明體"/>
              </a:rPr>
              <a:t>Streaming Multiprocesso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in block granula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4880" indent="-4032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Up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 blocks to each SM as resource all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4880" indent="-4032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M in G80 can take up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768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 thre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432080" indent="-34308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Could be 256 (threads/block) * 3 block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432080" indent="-34308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Or 128 (threads/block) * 6 blocks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Threads run concurr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4880" indent="-4032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M maintains thread/block id #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4880" indent="-4032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SM manages/schedules thread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1797120" y="2008080"/>
            <a:ext cx="1807920" cy="2733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9"/>
          <p:cNvSpPr/>
          <p:nvPr/>
        </p:nvSpPr>
        <p:spPr>
          <a:xfrm>
            <a:off x="3540240" y="1798560"/>
            <a:ext cx="395280" cy="2710080"/>
          </a:xfrm>
          <a:custGeom>
            <a:avLst/>
            <a:gdLst>
              <a:gd name="textAreaLeft" fmla="*/ 0 w 395280"/>
              <a:gd name="textAreaRight" fmla="*/ 395640 w 395280"/>
              <a:gd name="textAreaTop" fmla="*/ 0 h 2710080"/>
              <a:gd name="textAreaBottom" fmla="*/ 2710080 h 2710080"/>
            </a:gdLst>
            <a:ahLst/>
            <a:rect l="textAreaLeft" t="textAreaTop" r="textAreaRight" b="textAreaBottom"/>
            <a:pathLst>
              <a:path w="249" h="1707">
                <a:moveTo>
                  <a:pt x="0" y="1707"/>
                </a:moveTo>
                <a:lnTo>
                  <a:pt x="3" y="174"/>
                </a:lnTo>
                <a:lnTo>
                  <a:pt x="246" y="3"/>
                </a:lnTo>
                <a:lnTo>
                  <a:pt x="243" y="0"/>
                </a:lnTo>
                <a:lnTo>
                  <a:pt x="249" y="693"/>
                </a:lnTo>
              </a:path>
            </a:pathLst>
          </a:custGeom>
          <a:solidFill>
            <a:srgbClr val="ffff99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0"/>
          <p:cNvSpPr/>
          <p:nvPr/>
        </p:nvSpPr>
        <p:spPr>
          <a:xfrm>
            <a:off x="1463760" y="1793880"/>
            <a:ext cx="404640" cy="2724120"/>
          </a:xfrm>
          <a:custGeom>
            <a:avLst/>
            <a:gdLst>
              <a:gd name="textAreaLeft" fmla="*/ 0 w 404640"/>
              <a:gd name="textAreaRight" fmla="*/ 405000 w 40464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255" h="1716">
                <a:moveTo>
                  <a:pt x="6" y="699"/>
                </a:moveTo>
                <a:lnTo>
                  <a:pt x="255" y="1716"/>
                </a:lnTo>
                <a:lnTo>
                  <a:pt x="252" y="177"/>
                </a:lnTo>
                <a:lnTo>
                  <a:pt x="0" y="0"/>
                </a:lnTo>
              </a:path>
            </a:pathLst>
          </a:custGeom>
          <a:solidFill>
            <a:srgbClr val="99ff99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1"/>
          <p:cNvGrpSpPr/>
          <p:nvPr/>
        </p:nvGrpSpPr>
        <p:grpSpPr>
          <a:xfrm>
            <a:off x="345960" y="1798560"/>
            <a:ext cx="1114560" cy="1104840"/>
            <a:chOff x="345960" y="1798560"/>
            <a:chExt cx="1114560" cy="1104840"/>
          </a:xfrm>
        </p:grpSpPr>
        <p:sp>
          <p:nvSpPr>
            <p:cNvPr id="405" name="Text Box 12"/>
            <p:cNvSpPr/>
            <p:nvPr/>
          </p:nvSpPr>
          <p:spPr>
            <a:xfrm>
              <a:off x="345960" y="1798560"/>
              <a:ext cx="1114560" cy="110484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t0 t1 t2 … 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470160" y="2014920"/>
              <a:ext cx="151560" cy="7984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4"/>
            <p:cNvSpPr/>
            <p:nvPr/>
          </p:nvSpPr>
          <p:spPr>
            <a:xfrm>
              <a:off x="543240" y="2014920"/>
              <a:ext cx="151560" cy="7984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5"/>
            <p:cNvSpPr/>
            <p:nvPr/>
          </p:nvSpPr>
          <p:spPr>
            <a:xfrm>
              <a:off x="610920" y="2014920"/>
              <a:ext cx="151560" cy="7984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6"/>
            <p:cNvSpPr/>
            <p:nvPr/>
          </p:nvSpPr>
          <p:spPr>
            <a:xfrm>
              <a:off x="678600" y="2014920"/>
              <a:ext cx="151560" cy="7984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7"/>
            <p:cNvSpPr/>
            <p:nvPr/>
          </p:nvSpPr>
          <p:spPr>
            <a:xfrm>
              <a:off x="746280" y="2014920"/>
              <a:ext cx="150840" cy="798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8"/>
            <p:cNvSpPr/>
            <p:nvPr/>
          </p:nvSpPr>
          <p:spPr>
            <a:xfrm>
              <a:off x="813960" y="2014920"/>
              <a:ext cx="150480" cy="79848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9"/>
            <p:cNvSpPr/>
            <p:nvPr/>
          </p:nvSpPr>
          <p:spPr>
            <a:xfrm>
              <a:off x="881640" y="2014920"/>
              <a:ext cx="150480" cy="79848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0"/>
            <p:cNvSpPr/>
            <p:nvPr/>
          </p:nvSpPr>
          <p:spPr>
            <a:xfrm>
              <a:off x="949320" y="2014920"/>
              <a:ext cx="150840" cy="798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1"/>
            <p:cNvSpPr/>
            <p:nvPr/>
          </p:nvSpPr>
          <p:spPr>
            <a:xfrm>
              <a:off x="1017000" y="2014920"/>
              <a:ext cx="150840" cy="798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2"/>
            <p:cNvSpPr/>
            <p:nvPr/>
          </p:nvSpPr>
          <p:spPr>
            <a:xfrm>
              <a:off x="1084680" y="2014920"/>
              <a:ext cx="150480" cy="79848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3"/>
            <p:cNvSpPr/>
            <p:nvPr/>
          </p:nvSpPr>
          <p:spPr>
            <a:xfrm>
              <a:off x="1152360" y="2014920"/>
              <a:ext cx="150840" cy="798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4"/>
          <p:cNvSpPr/>
          <p:nvPr/>
        </p:nvSpPr>
        <p:spPr>
          <a:xfrm>
            <a:off x="396000" y="29955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26"/>
          <p:cNvGrpSpPr/>
          <p:nvPr/>
        </p:nvGrpSpPr>
        <p:grpSpPr>
          <a:xfrm>
            <a:off x="1868400" y="2075040"/>
            <a:ext cx="795240" cy="2441160"/>
            <a:chOff x="1868400" y="2075040"/>
            <a:chExt cx="795240" cy="2441160"/>
          </a:xfrm>
        </p:grpSpPr>
        <p:sp>
          <p:nvSpPr>
            <p:cNvPr id="419" name="Rectangle 27"/>
            <p:cNvSpPr/>
            <p:nvPr/>
          </p:nvSpPr>
          <p:spPr>
            <a:xfrm>
              <a:off x="1868400" y="2075040"/>
              <a:ext cx="795240" cy="2441160"/>
            </a:xfrm>
            <a:prstGeom prst="rect">
              <a:avLst/>
            </a:prstGeom>
            <a:solidFill>
              <a:srgbClr val="ccff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8"/>
            <p:cNvSpPr/>
            <p:nvPr/>
          </p:nvSpPr>
          <p:spPr>
            <a:xfrm>
              <a:off x="1943640" y="2435760"/>
              <a:ext cx="286560" cy="3218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S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9"/>
            <p:cNvSpPr/>
            <p:nvPr/>
          </p:nvSpPr>
          <p:spPr>
            <a:xfrm>
              <a:off x="2302200" y="2435760"/>
              <a:ext cx="289440" cy="3218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30"/>
            <p:cNvSpPr/>
            <p:nvPr/>
          </p:nvSpPr>
          <p:spPr>
            <a:xfrm>
              <a:off x="1943640" y="2838240"/>
              <a:ext cx="286560" cy="322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31"/>
            <p:cNvSpPr/>
            <p:nvPr/>
          </p:nvSpPr>
          <p:spPr>
            <a:xfrm>
              <a:off x="2302200" y="2838240"/>
              <a:ext cx="289440" cy="322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32"/>
            <p:cNvSpPr/>
            <p:nvPr/>
          </p:nvSpPr>
          <p:spPr>
            <a:xfrm>
              <a:off x="1943640" y="3241800"/>
              <a:ext cx="286560" cy="3218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33"/>
            <p:cNvSpPr/>
            <p:nvPr/>
          </p:nvSpPr>
          <p:spPr>
            <a:xfrm>
              <a:off x="2302200" y="3241800"/>
              <a:ext cx="289440" cy="3218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34"/>
            <p:cNvSpPr/>
            <p:nvPr/>
          </p:nvSpPr>
          <p:spPr>
            <a:xfrm>
              <a:off x="1943640" y="3644280"/>
              <a:ext cx="286560" cy="3218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35"/>
            <p:cNvSpPr/>
            <p:nvPr/>
          </p:nvSpPr>
          <p:spPr>
            <a:xfrm>
              <a:off x="2302200" y="3644280"/>
              <a:ext cx="289440" cy="3218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36"/>
            <p:cNvSpPr/>
            <p:nvPr/>
          </p:nvSpPr>
          <p:spPr>
            <a:xfrm rot="5400000">
              <a:off x="2057040" y="3915720"/>
              <a:ext cx="420840" cy="648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ha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37"/>
            <p:cNvSpPr/>
            <p:nvPr/>
          </p:nvSpPr>
          <p:spPr>
            <a:xfrm rot="5400000">
              <a:off x="2152440" y="1933920"/>
              <a:ext cx="229320" cy="6426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MT I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38"/>
          <p:cNvGrpSpPr/>
          <p:nvPr/>
        </p:nvGrpSpPr>
        <p:grpSpPr>
          <a:xfrm>
            <a:off x="2743200" y="2075040"/>
            <a:ext cx="796680" cy="2441160"/>
            <a:chOff x="2743200" y="2075040"/>
            <a:chExt cx="796680" cy="2441160"/>
          </a:xfrm>
        </p:grpSpPr>
        <p:sp>
          <p:nvSpPr>
            <p:cNvPr id="431" name="Rectangle 39"/>
            <p:cNvSpPr/>
            <p:nvPr/>
          </p:nvSpPr>
          <p:spPr>
            <a:xfrm>
              <a:off x="2743200" y="2075040"/>
              <a:ext cx="796680" cy="2441160"/>
            </a:xfrm>
            <a:prstGeom prst="rect">
              <a:avLst/>
            </a:prstGeom>
            <a:solidFill>
              <a:srgbClr val="ccff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40"/>
            <p:cNvSpPr/>
            <p:nvPr/>
          </p:nvSpPr>
          <p:spPr>
            <a:xfrm>
              <a:off x="2818080" y="2435760"/>
              <a:ext cx="285840" cy="3218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S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41"/>
            <p:cNvSpPr/>
            <p:nvPr/>
          </p:nvSpPr>
          <p:spPr>
            <a:xfrm>
              <a:off x="3178440" y="2435760"/>
              <a:ext cx="289440" cy="3218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42"/>
            <p:cNvSpPr/>
            <p:nvPr/>
          </p:nvSpPr>
          <p:spPr>
            <a:xfrm>
              <a:off x="2818080" y="2838240"/>
              <a:ext cx="285840" cy="322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43"/>
            <p:cNvSpPr/>
            <p:nvPr/>
          </p:nvSpPr>
          <p:spPr>
            <a:xfrm>
              <a:off x="3178440" y="2838240"/>
              <a:ext cx="289440" cy="322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44"/>
            <p:cNvSpPr/>
            <p:nvPr/>
          </p:nvSpPr>
          <p:spPr>
            <a:xfrm>
              <a:off x="2818080" y="3241800"/>
              <a:ext cx="285840" cy="3218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45"/>
            <p:cNvSpPr/>
            <p:nvPr/>
          </p:nvSpPr>
          <p:spPr>
            <a:xfrm>
              <a:off x="3178440" y="3241800"/>
              <a:ext cx="289440" cy="3218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46"/>
            <p:cNvSpPr/>
            <p:nvPr/>
          </p:nvSpPr>
          <p:spPr>
            <a:xfrm>
              <a:off x="2818080" y="3644280"/>
              <a:ext cx="285840" cy="3218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47"/>
            <p:cNvSpPr/>
            <p:nvPr/>
          </p:nvSpPr>
          <p:spPr>
            <a:xfrm>
              <a:off x="3178440" y="3644280"/>
              <a:ext cx="289440" cy="3218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48"/>
            <p:cNvSpPr/>
            <p:nvPr/>
          </p:nvSpPr>
          <p:spPr>
            <a:xfrm rot="5400000">
              <a:off x="2932200" y="3915000"/>
              <a:ext cx="420840" cy="6498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ha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49"/>
            <p:cNvSpPr/>
            <p:nvPr/>
          </p:nvSpPr>
          <p:spPr>
            <a:xfrm rot="5400000">
              <a:off x="3027960" y="1933200"/>
              <a:ext cx="229320" cy="64368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MT I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86"/>
          <p:cNvGrpSpPr/>
          <p:nvPr/>
        </p:nvGrpSpPr>
        <p:grpSpPr>
          <a:xfrm>
            <a:off x="3938760" y="1787400"/>
            <a:ext cx="1114200" cy="1105200"/>
            <a:chOff x="3938760" y="1787400"/>
            <a:chExt cx="1114200" cy="1105200"/>
          </a:xfrm>
        </p:grpSpPr>
        <p:sp>
          <p:nvSpPr>
            <p:cNvPr id="443" name="Text Box 87"/>
            <p:cNvSpPr/>
            <p:nvPr/>
          </p:nvSpPr>
          <p:spPr>
            <a:xfrm>
              <a:off x="3938760" y="1787400"/>
              <a:ext cx="1114200" cy="110520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t0 t1 t2 … 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88"/>
            <p:cNvSpPr/>
            <p:nvPr/>
          </p:nvSpPr>
          <p:spPr>
            <a:xfrm>
              <a:off x="4062600" y="2003760"/>
              <a:ext cx="151560" cy="79884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98840"/>
                <a:gd name="textAreaBottom" fmla="*/ 799200 h 79884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89"/>
            <p:cNvSpPr/>
            <p:nvPr/>
          </p:nvSpPr>
          <p:spPr>
            <a:xfrm>
              <a:off x="4136040" y="2003760"/>
              <a:ext cx="151560" cy="79884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98840"/>
                <a:gd name="textAreaBottom" fmla="*/ 799200 h 79884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90"/>
            <p:cNvSpPr/>
            <p:nvPr/>
          </p:nvSpPr>
          <p:spPr>
            <a:xfrm>
              <a:off x="4203720" y="2003760"/>
              <a:ext cx="151560" cy="79884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98840"/>
                <a:gd name="textAreaBottom" fmla="*/ 799200 h 79884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1"/>
            <p:cNvSpPr/>
            <p:nvPr/>
          </p:nvSpPr>
          <p:spPr>
            <a:xfrm>
              <a:off x="4271400" y="2003760"/>
              <a:ext cx="151560" cy="79884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98840"/>
                <a:gd name="textAreaBottom" fmla="*/ 799200 h 79884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92"/>
            <p:cNvSpPr/>
            <p:nvPr/>
          </p:nvSpPr>
          <p:spPr>
            <a:xfrm>
              <a:off x="4339080" y="2003760"/>
              <a:ext cx="150840" cy="7988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798840"/>
                <a:gd name="textAreaBottom" fmla="*/ 799200 h 79884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93"/>
            <p:cNvSpPr/>
            <p:nvPr/>
          </p:nvSpPr>
          <p:spPr>
            <a:xfrm>
              <a:off x="4406760" y="2003760"/>
              <a:ext cx="150480" cy="7988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798840"/>
                <a:gd name="textAreaBottom" fmla="*/ 799200 h 79884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94"/>
            <p:cNvSpPr/>
            <p:nvPr/>
          </p:nvSpPr>
          <p:spPr>
            <a:xfrm>
              <a:off x="4474440" y="2003760"/>
              <a:ext cx="150480" cy="7988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798840"/>
                <a:gd name="textAreaBottom" fmla="*/ 799200 h 79884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95"/>
            <p:cNvSpPr/>
            <p:nvPr/>
          </p:nvSpPr>
          <p:spPr>
            <a:xfrm>
              <a:off x="4541760" y="2003760"/>
              <a:ext cx="150840" cy="7988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798840"/>
                <a:gd name="textAreaBottom" fmla="*/ 799200 h 79884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96"/>
            <p:cNvSpPr/>
            <p:nvPr/>
          </p:nvSpPr>
          <p:spPr>
            <a:xfrm>
              <a:off x="4609440" y="2003760"/>
              <a:ext cx="150840" cy="7988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798840"/>
                <a:gd name="textAreaBottom" fmla="*/ 799200 h 79884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97"/>
            <p:cNvSpPr/>
            <p:nvPr/>
          </p:nvSpPr>
          <p:spPr>
            <a:xfrm>
              <a:off x="4677120" y="2003760"/>
              <a:ext cx="150480" cy="7988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798840"/>
                <a:gd name="textAreaBottom" fmla="*/ 799200 h 79884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98"/>
            <p:cNvSpPr/>
            <p:nvPr/>
          </p:nvSpPr>
          <p:spPr>
            <a:xfrm>
              <a:off x="4744800" y="2003760"/>
              <a:ext cx="150840" cy="7988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798840"/>
                <a:gd name="textAreaBottom" fmla="*/ 799200 h 79884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99"/>
          <p:cNvSpPr/>
          <p:nvPr/>
        </p:nvSpPr>
        <p:spPr>
          <a:xfrm>
            <a:off x="5064840" y="2117880"/>
            <a:ext cx="1015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00"/>
          <p:cNvSpPr/>
          <p:nvPr/>
        </p:nvSpPr>
        <p:spPr>
          <a:xfrm>
            <a:off x="1468440" y="1797120"/>
            <a:ext cx="398520" cy="276120"/>
          </a:xfrm>
          <a:prstGeom prst="line">
            <a:avLst/>
          </a:prstGeom>
          <a:ln w="38160">
            <a:solidFill>
              <a:srgbClr val="00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01"/>
          <p:cNvSpPr/>
          <p:nvPr/>
        </p:nvSpPr>
        <p:spPr>
          <a:xfrm>
            <a:off x="1479600" y="2905200"/>
            <a:ext cx="393480" cy="1595520"/>
          </a:xfrm>
          <a:prstGeom prst="line">
            <a:avLst/>
          </a:prstGeom>
          <a:ln w="38160">
            <a:solidFill>
              <a:srgbClr val="00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02"/>
          <p:cNvSpPr/>
          <p:nvPr/>
        </p:nvSpPr>
        <p:spPr>
          <a:xfrm flipV="1">
            <a:off x="3544920" y="1802880"/>
            <a:ext cx="392040" cy="281160"/>
          </a:xfrm>
          <a:prstGeom prst="line">
            <a:avLst/>
          </a:prstGeom>
          <a:ln w="38160">
            <a:solidFill>
              <a:srgbClr val="cc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03"/>
          <p:cNvSpPr/>
          <p:nvPr/>
        </p:nvSpPr>
        <p:spPr>
          <a:xfrm flipV="1">
            <a:off x="3527280" y="2905200"/>
            <a:ext cx="409680" cy="1595520"/>
          </a:xfrm>
          <a:prstGeom prst="line">
            <a:avLst/>
          </a:prstGeom>
          <a:ln w="38160">
            <a:solidFill>
              <a:srgbClr val="cc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4"/>
          <p:cNvSpPr/>
          <p:nvPr/>
        </p:nvSpPr>
        <p:spPr>
          <a:xfrm>
            <a:off x="2790720" y="1568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05"/>
          <p:cNvSpPr/>
          <p:nvPr/>
        </p:nvSpPr>
        <p:spPr>
          <a:xfrm>
            <a:off x="1912680" y="1568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M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  <a:ea typeface="新細明體"/>
              </a:rPr>
              <a:t>G80 Example: Thread Schedul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380880" y="1447920"/>
            <a:ext cx="4038840" cy="44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ach Block is executed as 32-thread Wa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n implementation decision, not part of the CUDA programming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Warps are scheduling units in 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If 3 blocks are assigned to an SM and each block has 256 threads, how many Warps are there in an S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ach Block is divided into 256/32 = 8 War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8 * 3 = 24 War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71"/>
          <p:cNvSpPr/>
          <p:nvPr/>
        </p:nvSpPr>
        <p:spPr>
          <a:xfrm>
            <a:off x="5146560" y="1671480"/>
            <a:ext cx="34480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72"/>
          <p:cNvSpPr/>
          <p:nvPr/>
        </p:nvSpPr>
        <p:spPr>
          <a:xfrm>
            <a:off x="7837560" y="3127320"/>
            <a:ext cx="801720" cy="10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3"/>
          <p:cNvSpPr/>
          <p:nvPr/>
        </p:nvSpPr>
        <p:spPr>
          <a:xfrm>
            <a:off x="4421160" y="1523880"/>
            <a:ext cx="1093680" cy="105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74"/>
          <p:cNvSpPr/>
          <p:nvPr/>
        </p:nvSpPr>
        <p:spPr>
          <a:xfrm>
            <a:off x="4573440" y="1676520"/>
            <a:ext cx="1094040" cy="105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75"/>
          <p:cNvGrpSpPr/>
          <p:nvPr/>
        </p:nvGrpSpPr>
        <p:grpSpPr>
          <a:xfrm>
            <a:off x="4800600" y="1905120"/>
            <a:ext cx="1066680" cy="1022400"/>
            <a:chOff x="4800600" y="1905120"/>
            <a:chExt cx="1066680" cy="1022400"/>
          </a:xfrm>
        </p:grpSpPr>
        <p:sp>
          <p:nvSpPr>
            <p:cNvPr id="470" name="Text Box 76"/>
            <p:cNvSpPr/>
            <p:nvPr/>
          </p:nvSpPr>
          <p:spPr>
            <a:xfrm>
              <a:off x="4800600" y="1905120"/>
              <a:ext cx="1066680" cy="102240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t0 t1 t2 … t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7"/>
            <p:cNvSpPr/>
            <p:nvPr/>
          </p:nvSpPr>
          <p:spPr>
            <a:xfrm>
              <a:off x="4919400" y="2105280"/>
              <a:ext cx="145080" cy="739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00cc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8"/>
            <p:cNvSpPr/>
            <p:nvPr/>
          </p:nvSpPr>
          <p:spPr>
            <a:xfrm>
              <a:off x="4989240" y="2105280"/>
              <a:ext cx="145080" cy="739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00cc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9"/>
            <p:cNvSpPr/>
            <p:nvPr/>
          </p:nvSpPr>
          <p:spPr>
            <a:xfrm>
              <a:off x="5054400" y="2105280"/>
              <a:ext cx="145080" cy="739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00cc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0"/>
            <p:cNvSpPr/>
            <p:nvPr/>
          </p:nvSpPr>
          <p:spPr>
            <a:xfrm>
              <a:off x="5118840" y="2105280"/>
              <a:ext cx="145080" cy="739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00cc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1"/>
            <p:cNvSpPr/>
            <p:nvPr/>
          </p:nvSpPr>
          <p:spPr>
            <a:xfrm>
              <a:off x="5183640" y="2105280"/>
              <a:ext cx="144360" cy="7390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00cc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2"/>
            <p:cNvSpPr/>
            <p:nvPr/>
          </p:nvSpPr>
          <p:spPr>
            <a:xfrm>
              <a:off x="5248440" y="2105280"/>
              <a:ext cx="144000" cy="7390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00cc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3"/>
            <p:cNvSpPr/>
            <p:nvPr/>
          </p:nvSpPr>
          <p:spPr>
            <a:xfrm>
              <a:off x="5313240" y="2105280"/>
              <a:ext cx="144000" cy="7390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00cc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4"/>
            <p:cNvSpPr/>
            <p:nvPr/>
          </p:nvSpPr>
          <p:spPr>
            <a:xfrm>
              <a:off x="5378040" y="2105280"/>
              <a:ext cx="144360" cy="7390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00cc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5"/>
            <p:cNvSpPr/>
            <p:nvPr/>
          </p:nvSpPr>
          <p:spPr>
            <a:xfrm>
              <a:off x="5442840" y="2105280"/>
              <a:ext cx="144360" cy="7390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00cc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6"/>
            <p:cNvSpPr/>
            <p:nvPr/>
          </p:nvSpPr>
          <p:spPr>
            <a:xfrm>
              <a:off x="5507640" y="2105280"/>
              <a:ext cx="144000" cy="7390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00cc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7"/>
            <p:cNvSpPr/>
            <p:nvPr/>
          </p:nvSpPr>
          <p:spPr>
            <a:xfrm>
              <a:off x="5572440" y="2105280"/>
              <a:ext cx="144360" cy="7390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00cc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 Box 88"/>
          <p:cNvSpPr/>
          <p:nvPr/>
        </p:nvSpPr>
        <p:spPr>
          <a:xfrm>
            <a:off x="4660920" y="1523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89"/>
          <p:cNvSpPr/>
          <p:nvPr/>
        </p:nvSpPr>
        <p:spPr>
          <a:xfrm>
            <a:off x="6021360" y="1523880"/>
            <a:ext cx="1093680" cy="105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0"/>
          <p:cNvSpPr/>
          <p:nvPr/>
        </p:nvSpPr>
        <p:spPr>
          <a:xfrm>
            <a:off x="6173640" y="1676520"/>
            <a:ext cx="1094040" cy="105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91"/>
          <p:cNvGrpSpPr/>
          <p:nvPr/>
        </p:nvGrpSpPr>
        <p:grpSpPr>
          <a:xfrm>
            <a:off x="6400800" y="1905120"/>
            <a:ext cx="1066680" cy="1022400"/>
            <a:chOff x="6400800" y="1905120"/>
            <a:chExt cx="1066680" cy="1022400"/>
          </a:xfrm>
        </p:grpSpPr>
        <p:sp>
          <p:nvSpPr>
            <p:cNvPr id="486" name="Text Box 92"/>
            <p:cNvSpPr/>
            <p:nvPr/>
          </p:nvSpPr>
          <p:spPr>
            <a:xfrm>
              <a:off x="6400800" y="1905120"/>
              <a:ext cx="1066680" cy="102240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t0 t1 t2 … t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3"/>
            <p:cNvSpPr/>
            <p:nvPr/>
          </p:nvSpPr>
          <p:spPr>
            <a:xfrm>
              <a:off x="6519600" y="2105280"/>
              <a:ext cx="145080" cy="739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4"/>
            <p:cNvSpPr/>
            <p:nvPr/>
          </p:nvSpPr>
          <p:spPr>
            <a:xfrm>
              <a:off x="6589440" y="2105280"/>
              <a:ext cx="145080" cy="739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5"/>
            <p:cNvSpPr/>
            <p:nvPr/>
          </p:nvSpPr>
          <p:spPr>
            <a:xfrm>
              <a:off x="6654600" y="2105280"/>
              <a:ext cx="145080" cy="739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6"/>
            <p:cNvSpPr/>
            <p:nvPr/>
          </p:nvSpPr>
          <p:spPr>
            <a:xfrm>
              <a:off x="6719040" y="2105280"/>
              <a:ext cx="145080" cy="739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7"/>
            <p:cNvSpPr/>
            <p:nvPr/>
          </p:nvSpPr>
          <p:spPr>
            <a:xfrm>
              <a:off x="6783840" y="2105280"/>
              <a:ext cx="144360" cy="7390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8"/>
            <p:cNvSpPr/>
            <p:nvPr/>
          </p:nvSpPr>
          <p:spPr>
            <a:xfrm>
              <a:off x="6848640" y="2105280"/>
              <a:ext cx="144000" cy="7390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9"/>
            <p:cNvSpPr/>
            <p:nvPr/>
          </p:nvSpPr>
          <p:spPr>
            <a:xfrm>
              <a:off x="6913440" y="2105280"/>
              <a:ext cx="144000" cy="7390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0"/>
            <p:cNvSpPr/>
            <p:nvPr/>
          </p:nvSpPr>
          <p:spPr>
            <a:xfrm>
              <a:off x="6978240" y="2105280"/>
              <a:ext cx="144360" cy="7390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1"/>
            <p:cNvSpPr/>
            <p:nvPr/>
          </p:nvSpPr>
          <p:spPr>
            <a:xfrm>
              <a:off x="7043040" y="2105280"/>
              <a:ext cx="144360" cy="7390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2"/>
            <p:cNvSpPr/>
            <p:nvPr/>
          </p:nvSpPr>
          <p:spPr>
            <a:xfrm>
              <a:off x="7107840" y="2105280"/>
              <a:ext cx="144000" cy="7390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3"/>
            <p:cNvSpPr/>
            <p:nvPr/>
          </p:nvSpPr>
          <p:spPr>
            <a:xfrm>
              <a:off x="7172640" y="2105280"/>
              <a:ext cx="144360" cy="7390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ff66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 Box 104"/>
          <p:cNvSpPr/>
          <p:nvPr/>
        </p:nvSpPr>
        <p:spPr>
          <a:xfrm>
            <a:off x="6261120" y="1523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05"/>
          <p:cNvSpPr/>
          <p:nvPr/>
        </p:nvSpPr>
        <p:spPr>
          <a:xfrm>
            <a:off x="4726080" y="1523880"/>
            <a:ext cx="1165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Block 1 War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06"/>
          <p:cNvSpPr/>
          <p:nvPr/>
        </p:nvSpPr>
        <p:spPr>
          <a:xfrm>
            <a:off x="6402240" y="1523880"/>
            <a:ext cx="1165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Block 2 War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07"/>
          <p:cNvSpPr/>
          <p:nvPr/>
        </p:nvSpPr>
        <p:spPr>
          <a:xfrm>
            <a:off x="5560920" y="3048120"/>
            <a:ext cx="2730600" cy="2555640"/>
          </a:xfrm>
          <a:prstGeom prst="rect">
            <a:avLst/>
          </a:prstGeom>
          <a:solidFill>
            <a:srgbClr val="d8d8d8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8"/>
          <p:cNvSpPr/>
          <p:nvPr/>
        </p:nvSpPr>
        <p:spPr>
          <a:xfrm>
            <a:off x="5641920" y="5396040"/>
            <a:ext cx="662040" cy="24120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09"/>
          <p:cNvSpPr/>
          <p:nvPr/>
        </p:nvSpPr>
        <p:spPr>
          <a:xfrm>
            <a:off x="5875560" y="5442120"/>
            <a:ext cx="18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S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10"/>
          <p:cNvSpPr/>
          <p:nvPr/>
        </p:nvSpPr>
        <p:spPr>
          <a:xfrm>
            <a:off x="5641920" y="5049720"/>
            <a:ext cx="662040" cy="23976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11"/>
          <p:cNvSpPr/>
          <p:nvPr/>
        </p:nvSpPr>
        <p:spPr>
          <a:xfrm>
            <a:off x="5875560" y="5094360"/>
            <a:ext cx="18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S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12"/>
          <p:cNvSpPr/>
          <p:nvPr/>
        </p:nvSpPr>
        <p:spPr>
          <a:xfrm>
            <a:off x="5641920" y="4703760"/>
            <a:ext cx="662040" cy="23976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13"/>
          <p:cNvSpPr/>
          <p:nvPr/>
        </p:nvSpPr>
        <p:spPr>
          <a:xfrm>
            <a:off x="5875560" y="4748040"/>
            <a:ext cx="18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S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4"/>
          <p:cNvSpPr/>
          <p:nvPr/>
        </p:nvSpPr>
        <p:spPr>
          <a:xfrm>
            <a:off x="5641920" y="4357800"/>
            <a:ext cx="662040" cy="23976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15"/>
          <p:cNvSpPr/>
          <p:nvPr/>
        </p:nvSpPr>
        <p:spPr>
          <a:xfrm>
            <a:off x="5875560" y="4402080"/>
            <a:ext cx="18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S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16"/>
          <p:cNvSpPr/>
          <p:nvPr/>
        </p:nvSpPr>
        <p:spPr>
          <a:xfrm>
            <a:off x="6410160" y="4378320"/>
            <a:ext cx="478080" cy="1182600"/>
          </a:xfrm>
          <a:prstGeom prst="rect">
            <a:avLst/>
          </a:prstGeom>
          <a:solidFill>
            <a:srgbClr val="fa9eec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17"/>
          <p:cNvSpPr/>
          <p:nvPr/>
        </p:nvSpPr>
        <p:spPr>
          <a:xfrm>
            <a:off x="6517080" y="4932360"/>
            <a:ext cx="279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新細明體"/>
              </a:rPr>
              <a:t>SF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8"/>
          <p:cNvSpPr/>
          <p:nvPr/>
        </p:nvSpPr>
        <p:spPr>
          <a:xfrm>
            <a:off x="7024680" y="5396040"/>
            <a:ext cx="662040" cy="24120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19"/>
          <p:cNvSpPr/>
          <p:nvPr/>
        </p:nvSpPr>
        <p:spPr>
          <a:xfrm>
            <a:off x="7260120" y="5442120"/>
            <a:ext cx="18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S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20"/>
          <p:cNvSpPr/>
          <p:nvPr/>
        </p:nvSpPr>
        <p:spPr>
          <a:xfrm>
            <a:off x="7024680" y="5049720"/>
            <a:ext cx="662040" cy="23976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21"/>
          <p:cNvSpPr/>
          <p:nvPr/>
        </p:nvSpPr>
        <p:spPr>
          <a:xfrm>
            <a:off x="7260120" y="5094360"/>
            <a:ext cx="18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S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22"/>
          <p:cNvSpPr/>
          <p:nvPr/>
        </p:nvSpPr>
        <p:spPr>
          <a:xfrm>
            <a:off x="7024680" y="4703760"/>
            <a:ext cx="662040" cy="23976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23"/>
          <p:cNvSpPr/>
          <p:nvPr/>
        </p:nvSpPr>
        <p:spPr>
          <a:xfrm>
            <a:off x="7260120" y="4748040"/>
            <a:ext cx="18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S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24"/>
          <p:cNvSpPr/>
          <p:nvPr/>
        </p:nvSpPr>
        <p:spPr>
          <a:xfrm>
            <a:off x="7024680" y="4357800"/>
            <a:ext cx="662040" cy="23976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25"/>
          <p:cNvSpPr/>
          <p:nvPr/>
        </p:nvSpPr>
        <p:spPr>
          <a:xfrm>
            <a:off x="7260120" y="4402080"/>
            <a:ext cx="18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S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26"/>
          <p:cNvSpPr/>
          <p:nvPr/>
        </p:nvSpPr>
        <p:spPr>
          <a:xfrm>
            <a:off x="7791480" y="4378320"/>
            <a:ext cx="393840" cy="1182600"/>
          </a:xfrm>
          <a:prstGeom prst="rect">
            <a:avLst/>
          </a:prstGeom>
          <a:solidFill>
            <a:srgbClr val="fa9eec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27"/>
          <p:cNvSpPr/>
          <p:nvPr/>
        </p:nvSpPr>
        <p:spPr>
          <a:xfrm>
            <a:off x="7857000" y="4932360"/>
            <a:ext cx="279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新細明體"/>
              </a:rPr>
              <a:t>SF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28"/>
          <p:cNvSpPr/>
          <p:nvPr/>
        </p:nvSpPr>
        <p:spPr>
          <a:xfrm>
            <a:off x="5719680" y="3652920"/>
            <a:ext cx="2398680" cy="241200"/>
          </a:xfrm>
          <a:prstGeom prst="rect">
            <a:avLst/>
          </a:prstGeom>
          <a:solidFill>
            <a:srgbClr val="ffff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29"/>
          <p:cNvSpPr/>
          <p:nvPr/>
        </p:nvSpPr>
        <p:spPr>
          <a:xfrm>
            <a:off x="6085080" y="3699000"/>
            <a:ext cx="1770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新細明體"/>
              </a:rPr>
              <a:t>Instruction Fetch/Dispa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30"/>
          <p:cNvSpPr/>
          <p:nvPr/>
        </p:nvSpPr>
        <p:spPr>
          <a:xfrm>
            <a:off x="5718240" y="3352680"/>
            <a:ext cx="2387520" cy="198720"/>
          </a:xfrm>
          <a:prstGeom prst="rect">
            <a:avLst/>
          </a:prstGeom>
          <a:solidFill>
            <a:srgbClr val="4d92e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31"/>
          <p:cNvSpPr/>
          <p:nvPr/>
        </p:nvSpPr>
        <p:spPr>
          <a:xfrm>
            <a:off x="6389640" y="3352680"/>
            <a:ext cx="928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新細明體"/>
              </a:rPr>
              <a:t>Instruction L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32"/>
          <p:cNvSpPr/>
          <p:nvPr/>
        </p:nvSpPr>
        <p:spPr>
          <a:xfrm>
            <a:off x="6009840" y="3124080"/>
            <a:ext cx="188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Streaming Multi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33"/>
          <p:cNvSpPr/>
          <p:nvPr/>
        </p:nvSpPr>
        <p:spPr>
          <a:xfrm>
            <a:off x="5729400" y="4024440"/>
            <a:ext cx="2398680" cy="241200"/>
          </a:xfrm>
          <a:prstGeom prst="rect">
            <a:avLst/>
          </a:prstGeom>
          <a:solidFill>
            <a:srgbClr val="d8d8ec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34"/>
          <p:cNvSpPr/>
          <p:nvPr/>
        </p:nvSpPr>
        <p:spPr>
          <a:xfrm>
            <a:off x="6390720" y="4070520"/>
            <a:ext cx="1052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新細明體"/>
              </a:rPr>
              <a:t>Shared Memo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35"/>
          <p:cNvSpPr/>
          <p:nvPr/>
        </p:nvSpPr>
        <p:spPr>
          <a:xfrm>
            <a:off x="7697880" y="1523880"/>
            <a:ext cx="1093680" cy="105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36"/>
          <p:cNvSpPr/>
          <p:nvPr/>
        </p:nvSpPr>
        <p:spPr>
          <a:xfrm>
            <a:off x="7850160" y="1676520"/>
            <a:ext cx="1093680" cy="105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37"/>
          <p:cNvGrpSpPr/>
          <p:nvPr/>
        </p:nvGrpSpPr>
        <p:grpSpPr>
          <a:xfrm>
            <a:off x="8077320" y="1905120"/>
            <a:ext cx="1066680" cy="1022400"/>
            <a:chOff x="8077320" y="1905120"/>
            <a:chExt cx="1066680" cy="1022400"/>
          </a:xfrm>
        </p:grpSpPr>
        <p:sp>
          <p:nvSpPr>
            <p:cNvPr id="532" name="Text Box 138"/>
            <p:cNvSpPr/>
            <p:nvPr/>
          </p:nvSpPr>
          <p:spPr>
            <a:xfrm>
              <a:off x="8077320" y="1905120"/>
              <a:ext cx="1066680" cy="102240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284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新細明體"/>
                </a:rPr>
                <a:t>t0 t1 t2 … t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9"/>
            <p:cNvSpPr/>
            <p:nvPr/>
          </p:nvSpPr>
          <p:spPr>
            <a:xfrm>
              <a:off x="8196120" y="2105280"/>
              <a:ext cx="145080" cy="739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669999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40"/>
            <p:cNvSpPr/>
            <p:nvPr/>
          </p:nvSpPr>
          <p:spPr>
            <a:xfrm>
              <a:off x="8265960" y="2105280"/>
              <a:ext cx="145080" cy="739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669999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41"/>
            <p:cNvSpPr/>
            <p:nvPr/>
          </p:nvSpPr>
          <p:spPr>
            <a:xfrm>
              <a:off x="8331120" y="2105280"/>
              <a:ext cx="145080" cy="739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669999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2"/>
            <p:cNvSpPr/>
            <p:nvPr/>
          </p:nvSpPr>
          <p:spPr>
            <a:xfrm>
              <a:off x="8395560" y="2105280"/>
              <a:ext cx="145080" cy="739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669999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43"/>
            <p:cNvSpPr/>
            <p:nvPr/>
          </p:nvSpPr>
          <p:spPr>
            <a:xfrm>
              <a:off x="8460360" y="2105280"/>
              <a:ext cx="144360" cy="7390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669999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4"/>
            <p:cNvSpPr/>
            <p:nvPr/>
          </p:nvSpPr>
          <p:spPr>
            <a:xfrm>
              <a:off x="8525160" y="2105280"/>
              <a:ext cx="144000" cy="7390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669999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45"/>
            <p:cNvSpPr/>
            <p:nvPr/>
          </p:nvSpPr>
          <p:spPr>
            <a:xfrm>
              <a:off x="8589960" y="2105280"/>
              <a:ext cx="144000" cy="7390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669999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46"/>
            <p:cNvSpPr/>
            <p:nvPr/>
          </p:nvSpPr>
          <p:spPr>
            <a:xfrm>
              <a:off x="8654760" y="2105280"/>
              <a:ext cx="144360" cy="7390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669999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7"/>
            <p:cNvSpPr/>
            <p:nvPr/>
          </p:nvSpPr>
          <p:spPr>
            <a:xfrm>
              <a:off x="8719560" y="2105280"/>
              <a:ext cx="144360" cy="7390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669999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48"/>
            <p:cNvSpPr/>
            <p:nvPr/>
          </p:nvSpPr>
          <p:spPr>
            <a:xfrm>
              <a:off x="8784360" y="2105280"/>
              <a:ext cx="144000" cy="7390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669999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49"/>
            <p:cNvSpPr/>
            <p:nvPr/>
          </p:nvSpPr>
          <p:spPr>
            <a:xfrm>
              <a:off x="8849160" y="2105280"/>
              <a:ext cx="144360" cy="7390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solidFill>
              <a:srgbClr val="ffffff">
                <a:alpha val="67000"/>
              </a:srgbClr>
            </a:solidFill>
            <a:ln w="25560">
              <a:solidFill>
                <a:srgbClr val="669999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150"/>
          <p:cNvSpPr/>
          <p:nvPr/>
        </p:nvSpPr>
        <p:spPr>
          <a:xfrm>
            <a:off x="7937640" y="1523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51"/>
          <p:cNvSpPr/>
          <p:nvPr/>
        </p:nvSpPr>
        <p:spPr>
          <a:xfrm>
            <a:off x="8002440" y="1523880"/>
            <a:ext cx="1165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Block 1 War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GPU Vector Sum using Thread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oal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-do GPU vector Sum using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threa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tead of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l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all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vector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put result in vect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3" descr=""/>
          <p:cNvPicPr/>
          <p:nvPr/>
        </p:nvPicPr>
        <p:blipFill>
          <a:blip r:embed="rId1"/>
          <a:stretch/>
        </p:blipFill>
        <p:spPr>
          <a:xfrm>
            <a:off x="2362320" y="3341520"/>
            <a:ext cx="434340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GPU Vector Summ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rst, change kernel invocation fr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&lt;&lt;&lt;N,1&gt;&gt;&gt;( dev_a, dev_b, dev_c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&lt;&lt;&lt;1,N&gt;&gt;&gt;( dev_a, dev_b, dev_c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8"/>
          <p:cNvSpPr/>
          <p:nvPr/>
        </p:nvSpPr>
        <p:spPr>
          <a:xfrm>
            <a:off x="838080" y="3124080"/>
            <a:ext cx="1981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ocks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2" name="Straight Arrow Connector 5"/>
          <p:cNvCxnSpPr/>
          <p:nvPr/>
        </p:nvCxnSpPr>
        <p:spPr>
          <a:xfrm flipH="1" flipV="1">
            <a:off x="1752120" y="2742840"/>
            <a:ext cx="38880" cy="3816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53" name="TextBox 8"/>
          <p:cNvSpPr/>
          <p:nvPr/>
        </p:nvSpPr>
        <p:spPr>
          <a:xfrm>
            <a:off x="762120" y="5638680"/>
            <a:ext cx="1981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ock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re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4" name="Straight Arrow Connector 15"/>
          <p:cNvCxnSpPr>
            <a:stCxn id="553" idx="0"/>
          </p:cNvCxnSpPr>
          <p:nvPr/>
        </p:nvCxnSpPr>
        <p:spPr>
          <a:xfrm flipH="1" flipV="1">
            <a:off x="1675800" y="4952160"/>
            <a:ext cx="76680" cy="5677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GPU Vector Summing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iously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cks, block numbers (blockIdx.x) goe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, 2, 3, ….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w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ad numbers (stored in threadIdx.x) goe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, 2, 3…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 change from indexing based on block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id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blockIdx.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indexing based on thread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id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threadIdx.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These are the only two changes required to go from multiple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ourier New"/>
              </a:rPr>
              <a:t>block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to multiple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ourier New"/>
              </a:rPr>
              <a:t>thread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GPU Vector Sum using Thread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 Listing (Changed lines in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../common/book.h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N  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_global__ void add( int *a, int *b, int *c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nt tid = threadIdx.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tid &lt; 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[tid] = a[tid] + b[tid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Box 8"/>
          <p:cNvSpPr/>
          <p:nvPr/>
        </p:nvSpPr>
        <p:spPr>
          <a:xfrm>
            <a:off x="6248520" y="4551480"/>
            <a:ext cx="2286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anged from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blockIdx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threadI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Straight Arrow Connector 4"/>
          <p:cNvCxnSpPr/>
          <p:nvPr/>
        </p:nvCxnSpPr>
        <p:spPr>
          <a:xfrm flipH="1" flipV="1">
            <a:off x="4494960" y="4550760"/>
            <a:ext cx="1753560" cy="1688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GPU Vector Sum using Thread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 void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[N], b[N], c[N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dev_a, *dev_b, *dev_c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llocate the memory on the G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alloc( (void**)&amp;dev_a, N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(int)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alloc( (void**)&amp;dev_b, N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(int)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alloc( (void**)&amp;dev_c, N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(int)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GPU Vector Sum using Thread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l the arrays 'a' and 'b' on the C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N; i++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i] = i * 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py the arrays 'a' and 'b' to the G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emcpy( dev_a, a, N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(int), cudaMemcpyHostToDevice)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emcpy( dev_b, b, N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(int), cudaMemcpyHostToDevice)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Device Propertie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Insert exerpts of table 3.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73120" y="1600200"/>
            <a:ext cx="68374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GPU Vector Sum using Thread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add&lt;&lt;&lt;1,N&gt;&gt;&gt;( dev_a, dev_b, dev_c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py array 'c' back from the GPU to the C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Memcpy( c, dev_c, N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of(int),cudaMemcpyDeviceToHost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isplay the resul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N; i++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%d + %d = %d\n", a[i], b[i], c[i]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8"/>
          <p:cNvSpPr/>
          <p:nvPr/>
        </p:nvSpPr>
        <p:spPr>
          <a:xfrm>
            <a:off x="1219320" y="1735200"/>
            <a:ext cx="4305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anged from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add&lt;&lt;N,1&gt;&gt;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add&lt;&lt;1,N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Straight Arrow Connector 4"/>
          <p:cNvCxnSpPr/>
          <p:nvPr/>
        </p:nvCxnSpPr>
        <p:spPr>
          <a:xfrm flipH="1">
            <a:off x="2590200" y="2073240"/>
            <a:ext cx="229320" cy="8229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alibri"/>
              </a:rPr>
              <a:t>GPU Vector Sum using Threads</a:t>
            </a:r>
            <a:endParaRPr b="1" lang="en-US" sz="3600" spc="-1" strike="noStrike">
              <a:solidFill>
                <a:srgbClr val="330066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ee the memory allocated on the GP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Free( dev_a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Free( dev_b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ERROR( cudaFree( dev_c 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UDA Device Propertie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117440" y="1676520"/>
            <a:ext cx="68947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UDA Device Propertie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52280" y="1490760"/>
            <a:ext cx="6904080" cy="5362560"/>
          </a:xfrm>
          <a:prstGeom prst="rect">
            <a:avLst/>
          </a:prstGeom>
          <a:ln w="0">
            <a:noFill/>
          </a:ln>
        </p:spPr>
      </p:pic>
      <p:sp>
        <p:nvSpPr>
          <p:cNvPr id="250" name="TextBox 3"/>
          <p:cNvSpPr/>
          <p:nvPr/>
        </p:nvSpPr>
        <p:spPr>
          <a:xfrm>
            <a:off x="7092720" y="4876920"/>
            <a:ext cx="161784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ny, one,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reads ca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udaSet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Straight Arrow Connector 4"/>
          <p:cNvCxnSpPr/>
          <p:nvPr/>
        </p:nvCxnSpPr>
        <p:spPr>
          <a:xfrm flipH="1">
            <a:off x="6171840" y="5029200"/>
            <a:ext cx="91512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alibri"/>
              </a:rPr>
              <a:t>CUDA Device Properties</a:t>
            </a:r>
            <a:endParaRPr b="1" lang="en-US" sz="3900" spc="-1" strike="noStrike">
              <a:solidFill>
                <a:srgbClr val="330066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145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7:50:42Z</dcterms:created>
  <dc:creator>Emmanuel Agu</dc:creator>
  <dc:description/>
  <dc:language>en-US</dc:language>
  <cp:lastModifiedBy>emmanuel</cp:lastModifiedBy>
  <dcterms:modified xsi:type="dcterms:W3CDTF">2011-09-29T10:46:16Z</dcterms:modified>
  <cp:revision>635</cp:revision>
  <dc:subject/>
  <dc:title>General Purpose Computations on Graphics Processing Units (GPGPU) for</dc:title>
</cp:coreProperties>
</file>