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2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2.xml.rels" ContentType="application/vnd.openxmlformats-package.relationships+xml"/>
  <Override PartName="/ppt/notesSlides/notesSlide85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6.png" ContentType="image/png"/>
  <Override PartName="/ppt/media/image25.png" ContentType="image/png"/>
  <Override PartName="/ppt/media/image24.png" ContentType="image/png"/>
  <Override PartName="/ppt/media/image11.jpeg" ContentType="image/jpeg"/>
  <Override PartName="/ppt/media/image22.png" ContentType="image/png"/>
  <Override PartName="/ppt/media/image20.png" ContentType="image/png"/>
  <Override PartName="/ppt/media/image2.jpeg" ContentType="image/jpeg"/>
  <Override PartName="/ppt/media/image9.png" ContentType="image/png"/>
  <Override PartName="/ppt/media/image29.png" ContentType="image/png"/>
  <Override PartName="/ppt/media/image31.png" ContentType="image/png"/>
  <Override PartName="/ppt/media/image6.png" ContentType="image/png"/>
  <Override PartName="/ppt/media/image36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23.wmf" ContentType="image/x-wmf"/>
  <Override PartName="/ppt/media/image8.png" ContentType="image/png"/>
  <Override PartName="/ppt/media/image33.png" ContentType="image/png"/>
  <Override PartName="/ppt/media/image13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30.png" ContentType="image/png"/>
  <Override PartName="/ppt/media/image3.jpeg" ContentType="image/jpeg"/>
  <Override PartName="/ppt/media/image18.jpeg" ContentType="image/jpeg"/>
  <Override PartName="/ppt/media/image15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35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19.png" ContentType="image/png"/>
  <Override PartName="/ppt/media/image21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8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2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dt" idx="7"/>
          </p:nvPr>
        </p:nvSpPr>
        <p:spPr>
          <a:xfrm>
            <a:off x="4142880" y="0"/>
            <a:ext cx="317052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sldImg"/>
          </p:nvPr>
        </p:nvSpPr>
        <p:spPr>
          <a:xfrm>
            <a:off x="1255680" y="718920"/>
            <a:ext cx="48024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Calibri"/>
              </a:rPr>
              <a:t>Click to move the slide</a:t>
            </a:r>
            <a:endParaRPr b="1" lang="en-US" sz="39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body"/>
          </p:nvPr>
        </p:nvSpPr>
        <p:spPr>
          <a:xfrm>
            <a:off x="730080" y="4559040"/>
            <a:ext cx="5855040" cy="4322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ftr" idx="8"/>
          </p:nvPr>
        </p:nvSpPr>
        <p:spPr>
          <a:xfrm>
            <a:off x="0" y="9118080"/>
            <a:ext cx="3170160" cy="4813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 type="sldNum" idx="9"/>
          </p:nvPr>
        </p:nvSpPr>
        <p:spPr>
          <a:xfrm>
            <a:off x="4142880" y="9118080"/>
            <a:ext cx="3170520" cy="4813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DA79E2D0-27E6-46FD-95AB-081E9A2DB3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E939A644-10C5-47FC-9DA1-D900651465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255680" y="719280"/>
            <a:ext cx="4802400" cy="360036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30080" y="4559040"/>
            <a:ext cx="5855040" cy="43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255680" y="719280"/>
            <a:ext cx="4802400" cy="360036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730080" y="4559040"/>
            <a:ext cx="5855040" cy="43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C72EBCA5-CDB0-433F-82B1-67907BA5D0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E2AB1AC8-B8E7-4C1E-8F9B-6034F5A0C3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255680" y="719280"/>
            <a:ext cx="4802400" cy="360036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730080" y="4559040"/>
            <a:ext cx="5855040" cy="43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255680" y="719280"/>
            <a:ext cx="4802400" cy="360036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30080" y="4559040"/>
            <a:ext cx="5855040" cy="4322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to 8.  Maybe 1 if all threads are in the same warp and issued at the same ti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70F251ED-8B31-4724-A0AB-D91688BDC1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255680" y="719280"/>
            <a:ext cx="4802400" cy="360036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730080" y="4559040"/>
            <a:ext cx="5855040" cy="4322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to 8.  Maybe 1 if all threads are in the same warp and issued at the same ti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29F92933-4804-4DA5-88C8-18FBEDB574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255680" y="719280"/>
            <a:ext cx="4802400" cy="360036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30080" y="4559040"/>
            <a:ext cx="5855040" cy="4322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– no race con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D91A2A4E-7357-43FF-9A2C-7D2DC51478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255680" y="719280"/>
            <a:ext cx="4802400" cy="360036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730080" y="4559040"/>
            <a:ext cx="5855040" cy="4322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– no race con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2652B781-22A6-4C3D-B6A4-BFA641794F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255680" y="719280"/>
            <a:ext cx="4802400" cy="360036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730080" y="4559040"/>
            <a:ext cx="5855040" cy="43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5955CA88-BD5E-4A52-9FE2-B4888AD6B7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255680" y="719280"/>
            <a:ext cx="4802400" cy="360036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730080" y="4559040"/>
            <a:ext cx="5855040" cy="43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3136E7B8-B92A-47AD-A97C-FBA064B44A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255680" y="719280"/>
            <a:ext cx="4802400" cy="360036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730080" y="4559040"/>
            <a:ext cx="5855040" cy="43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67BFB946-AC81-41CD-A975-54F327B533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255680" y="719280"/>
            <a:ext cx="4802400" cy="360036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730080" y="4559040"/>
            <a:ext cx="5855040" cy="43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16D88EB9-6C0C-451F-8037-624C5AD63D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255680" y="719280"/>
            <a:ext cx="4802400" cy="360036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730080" y="4559040"/>
            <a:ext cx="5855040" cy="4322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brid CPU/GPU, mobile?, conso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iminates the need to copy to and from host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ables applications where the memory transfer (bus bandwidth) was the bottleneck such as simple image process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8921D800-4F80-4298-8BE7-88D8FE5881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255680" y="719280"/>
            <a:ext cx="4802400" cy="360036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730080" y="4559040"/>
            <a:ext cx="5855040" cy="43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A55C8433-76EC-4375-9CB9-B7B7CDDC09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255680" y="719280"/>
            <a:ext cx="4802400" cy="360036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730080" y="4559040"/>
            <a:ext cx="5855040" cy="43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73239578-BE8A-4C77-88DA-926034BB40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7B362-8D5B-4293-A1A9-2AEA2D499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871CB-3997-4906-8165-E4AA92F28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55DF8-659A-42D7-863B-7A48232B3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06A41-31B5-4D89-B8F5-62B35A82E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6EA8A-822A-461B-8AC8-35859296B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C2A48-FB2F-46EF-B3D1-B2ACB5FC7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191D4-0F27-4D93-B0D6-A2A2D8DB4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845C9-73B5-4170-A23C-41098936A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CB3D7-BCF5-44D3-BCAD-7CCB036AC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F4970-0F3C-49AB-9C62-5F0DF8F50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93082-2F13-46F4-9CC8-5B69EF906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1B8DF-D616-4879-B4E8-C4E40E3AD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5F06C-152F-459E-A55D-BC900198D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D8765-9122-43FD-B892-E86F494FA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A5303-8D2C-416E-8A2A-60C0500DE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5CF8E-53EB-4A0B-A8C6-513BC573D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99402-62AD-438E-870C-6A55B042A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CA949-1796-434F-BABA-9318AF0FD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E6CF9-A517-441F-8890-A687FB260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BEFFF-B56C-406F-96E3-3AE38528B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4A98E-A26A-4123-B11B-862CA0750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F0A08-7FE8-4725-A8E7-6E8D1FBB0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11257-7875-4138-B3DE-CEFAF6791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5ED1D-329E-44E1-BB02-3C3D51AB3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Calibri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F3B78-4C8F-4985-B81A-AA8CECFFFF8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0944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376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0944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094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0944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0944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0944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0944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09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Calibri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54876-588E-43AF-B96C-4AA0EB36E08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66"/>
                </a:solidFill>
                <a:latin typeface="Calibri"/>
              </a:rPr>
              <a:t>Introduction to GPGPU (CS 525G) Lecture 7  - Graphics Interoperability, Atomics, Page Locked Memory</a:t>
            </a:r>
            <a:endParaRPr b="1" lang="en-US" sz="32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f Emmanuel Ag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Computer Science Dep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Worcester Polytechnic Institute (WPI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Calibri"/>
                <a:ea typeface="Calibri"/>
              </a:rPr>
              <a:t>CUDA Graphics Interoperability</a:t>
            </a:r>
            <a:endParaRPr b="1" lang="en-US" sz="36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First, declare two global variables to store handles to data we share between OpenGL and CUD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Declared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2 handles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to the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same d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4" name="Picture 2" descr=""/>
          <p:cNvPicPr/>
          <p:nvPr/>
        </p:nvPicPr>
        <p:blipFill>
          <a:blip r:embed="rId1"/>
          <a:stretch/>
        </p:blipFill>
        <p:spPr>
          <a:xfrm>
            <a:off x="914400" y="2666880"/>
            <a:ext cx="7313760" cy="847800"/>
          </a:xfrm>
          <a:prstGeom prst="rect">
            <a:avLst/>
          </a:prstGeom>
          <a:ln w="0">
            <a:noFill/>
          </a:ln>
        </p:spPr>
      </p:pic>
      <p:sp>
        <p:nvSpPr>
          <p:cNvPr id="195" name="Rectangle 4"/>
          <p:cNvSpPr/>
          <p:nvPr/>
        </p:nvSpPr>
        <p:spPr>
          <a:xfrm>
            <a:off x="2971800" y="5438880"/>
            <a:ext cx="1523880" cy="733320"/>
          </a:xfrm>
          <a:prstGeom prst="rect">
            <a:avLst/>
          </a:prstGeom>
          <a:solidFill>
            <a:srgbClr val="cccc00"/>
          </a:solidFill>
          <a:ln w="25560">
            <a:solidFill>
              <a:srgbClr val="95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Shar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Buf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Box 5"/>
          <p:cNvSpPr/>
          <p:nvPr/>
        </p:nvSpPr>
        <p:spPr>
          <a:xfrm>
            <a:off x="838080" y="4995720"/>
            <a:ext cx="914400" cy="3373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6"/>
          <p:cNvSpPr/>
          <p:nvPr/>
        </p:nvSpPr>
        <p:spPr>
          <a:xfrm>
            <a:off x="5562720" y="4952880"/>
            <a:ext cx="1066680" cy="3373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penG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Straight Arrow Connector 7"/>
          <p:cNvCxnSpPr>
            <a:endCxn id="195" idx="1"/>
          </p:cNvCxnSpPr>
          <p:nvPr/>
        </p:nvCxnSpPr>
        <p:spPr>
          <a:xfrm>
            <a:off x="1447560" y="5333760"/>
            <a:ext cx="1524600" cy="4719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99" name="Straight Arrow Connector 8"/>
          <p:cNvCxnSpPr/>
          <p:nvPr/>
        </p:nvCxnSpPr>
        <p:spPr>
          <a:xfrm flipV="1">
            <a:off x="4495680" y="5333760"/>
            <a:ext cx="1524960" cy="4579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200" name="Picture 3" descr=""/>
          <p:cNvPicPr/>
          <p:nvPr/>
        </p:nvPicPr>
        <p:blipFill>
          <a:blip r:embed="rId2"/>
          <a:stretch/>
        </p:blipFill>
        <p:spPr>
          <a:xfrm>
            <a:off x="7162920" y="4495680"/>
            <a:ext cx="1218960" cy="1219320"/>
          </a:xfrm>
          <a:prstGeom prst="rect">
            <a:avLst/>
          </a:prstGeom>
          <a:ln w="0">
            <a:noFill/>
          </a:ln>
        </p:spPr>
      </p:pic>
      <p:cxnSp>
        <p:nvCxnSpPr>
          <p:cNvPr id="201" name="Straight Arrow Connector 10"/>
          <p:cNvCxnSpPr/>
          <p:nvPr/>
        </p:nvCxnSpPr>
        <p:spPr>
          <a:xfrm>
            <a:off x="6629400" y="5105160"/>
            <a:ext cx="5342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02" name="TextBox 11"/>
          <p:cNvSpPr/>
          <p:nvPr/>
        </p:nvSpPr>
        <p:spPr>
          <a:xfrm>
            <a:off x="1219320" y="556272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*resour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Box 12"/>
          <p:cNvSpPr/>
          <p:nvPr/>
        </p:nvSpPr>
        <p:spPr>
          <a:xfrm>
            <a:off x="5029200" y="556272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fferOb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Calibri"/>
                <a:ea typeface="Calibri"/>
              </a:rPr>
              <a:t>CUDA Graphics Interoperability</a:t>
            </a:r>
            <a:endParaRPr b="1" lang="en-US" sz="36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Next we select a CUDA device on which to run our applic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Most systems will have just one CUDA devi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Some systems have multiple CUDA devices. Need to choose o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Calibri"/>
                <a:ea typeface="Calibri"/>
              </a:rPr>
              <a:t>CUDA Graphics Interoperability</a:t>
            </a:r>
            <a:endParaRPr b="1" lang="en-US" sz="36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Use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  <a:ea typeface="Calibri"/>
              </a:rPr>
              <a:t>cudaDeviceProp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to select CUDA devi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Code below tells runtime to select any GPU that has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compute capability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 of version 1.0 or bet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8" name="Picture 2" descr=""/>
          <p:cNvPicPr/>
          <p:nvPr/>
        </p:nvPicPr>
        <p:blipFill>
          <a:blip r:embed="rId1"/>
          <a:stretch/>
        </p:blipFill>
        <p:spPr>
          <a:xfrm>
            <a:off x="152280" y="3130560"/>
            <a:ext cx="7294680" cy="2581200"/>
          </a:xfrm>
          <a:prstGeom prst="rect">
            <a:avLst/>
          </a:prstGeom>
          <a:ln w="0">
            <a:noFill/>
          </a:ln>
        </p:spPr>
      </p:pic>
      <p:sp>
        <p:nvSpPr>
          <p:cNvPr id="209" name="TextBox 5"/>
          <p:cNvSpPr/>
          <p:nvPr/>
        </p:nvSpPr>
        <p:spPr>
          <a:xfrm>
            <a:off x="7517160" y="4343400"/>
            <a:ext cx="156132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Clear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6"/>
          <p:cNvSpPr/>
          <p:nvPr/>
        </p:nvSpPr>
        <p:spPr>
          <a:xfrm>
            <a:off x="2237760" y="6203880"/>
            <a:ext cx="1861560" cy="642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Choose Device f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CUDA + G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1" name="Straight Arrow Connector 7"/>
          <p:cNvCxnSpPr>
            <a:stCxn id="212" idx="1"/>
          </p:cNvCxnSpPr>
          <p:nvPr/>
        </p:nvCxnSpPr>
        <p:spPr>
          <a:xfrm flipH="1" flipV="1">
            <a:off x="2666520" y="5060160"/>
            <a:ext cx="2363040" cy="108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13" name="Straight Arrow Connector 10"/>
          <p:cNvCxnSpPr>
            <a:stCxn id="209" idx="1"/>
          </p:cNvCxnSpPr>
          <p:nvPr/>
        </p:nvCxnSpPr>
        <p:spPr>
          <a:xfrm flipH="1">
            <a:off x="5637960" y="4527720"/>
            <a:ext cx="1872360" cy="360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14" name="Straight Arrow Connector 13"/>
          <p:cNvCxnSpPr>
            <a:stCxn id="210" idx="0"/>
          </p:cNvCxnSpPr>
          <p:nvPr/>
        </p:nvCxnSpPr>
        <p:spPr>
          <a:xfrm flipV="1">
            <a:off x="3168720" y="5486040"/>
            <a:ext cx="32400" cy="71784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215" name="TextBox 18"/>
          <p:cNvSpPr/>
          <p:nvPr/>
        </p:nvSpPr>
        <p:spPr>
          <a:xfrm>
            <a:off x="4379040" y="6208560"/>
            <a:ext cx="3449880" cy="642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ID of device satisfying constrain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Specified in &amp;prop, returned in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d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6" name="Straight Arrow Connector 19"/>
          <p:cNvCxnSpPr>
            <a:stCxn id="215" idx="0"/>
          </p:cNvCxnSpPr>
          <p:nvPr/>
        </p:nvCxnSpPr>
        <p:spPr>
          <a:xfrm flipH="1" flipV="1">
            <a:off x="4571280" y="5490720"/>
            <a:ext cx="1532520" cy="71784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212" name="TextBox 3"/>
          <p:cNvSpPr/>
          <p:nvPr/>
        </p:nvSpPr>
        <p:spPr>
          <a:xfrm>
            <a:off x="5037120" y="4876920"/>
            <a:ext cx="307620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Want CUDA 1.0 or more rec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Calibri"/>
                <a:ea typeface="Calibri"/>
              </a:rPr>
              <a:t>CUDA Graphics Interoperability</a:t>
            </a:r>
            <a:endParaRPr b="1" lang="en-US" sz="36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Then set device with returned ID as CUDA + GL devic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Then make GLUT calls to initialize GLUT and create drawing window (that we have called “bitmap”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9" name="Picture 2" descr=""/>
          <p:cNvPicPr/>
          <p:nvPr/>
        </p:nvPicPr>
        <p:blipFill>
          <a:blip r:embed="rId1"/>
          <a:stretch/>
        </p:blipFill>
        <p:spPr>
          <a:xfrm>
            <a:off x="685800" y="2362320"/>
            <a:ext cx="7294680" cy="55224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3" descr=""/>
          <p:cNvPicPr/>
          <p:nvPr/>
        </p:nvPicPr>
        <p:blipFill>
          <a:blip r:embed="rId2"/>
          <a:stretch/>
        </p:blipFill>
        <p:spPr>
          <a:xfrm>
            <a:off x="380880" y="3886200"/>
            <a:ext cx="7285320" cy="1704960"/>
          </a:xfrm>
          <a:prstGeom prst="rect">
            <a:avLst/>
          </a:prstGeom>
          <a:ln w="0">
            <a:noFill/>
          </a:ln>
        </p:spPr>
      </p:pic>
      <p:cxnSp>
        <p:nvCxnSpPr>
          <p:cNvPr id="221" name="Straight Arrow Connector 5"/>
          <p:cNvCxnSpPr>
            <a:stCxn id="222" idx="1"/>
          </p:cNvCxnSpPr>
          <p:nvPr/>
        </p:nvCxnSpPr>
        <p:spPr>
          <a:xfrm flipH="1">
            <a:off x="6019560" y="4660920"/>
            <a:ext cx="762480" cy="6408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222" name="TextBox 3"/>
          <p:cNvSpPr/>
          <p:nvPr/>
        </p:nvSpPr>
        <p:spPr>
          <a:xfrm>
            <a:off x="6798240" y="4368960"/>
            <a:ext cx="1697040" cy="58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Double buffering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color set as RG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3" name="Straight Arrow Connector 7"/>
          <p:cNvCxnSpPr>
            <a:stCxn id="224" idx="1"/>
          </p:cNvCxnSpPr>
          <p:nvPr/>
        </p:nvCxnSpPr>
        <p:spPr>
          <a:xfrm flipH="1" flipV="1">
            <a:off x="4419000" y="5105160"/>
            <a:ext cx="1143720" cy="9432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224" name="TextBox 3"/>
          <p:cNvSpPr/>
          <p:nvPr/>
        </p:nvSpPr>
        <p:spPr>
          <a:xfrm>
            <a:off x="5582880" y="5029200"/>
            <a:ext cx="3332520" cy="337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Window dimensions (Width x Heigh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5" name="Straight Arrow Connector 9"/>
          <p:cNvCxnSpPr>
            <a:stCxn id="226" idx="1"/>
          </p:cNvCxnSpPr>
          <p:nvPr/>
        </p:nvCxnSpPr>
        <p:spPr>
          <a:xfrm flipH="1" flipV="1">
            <a:off x="3482280" y="5409360"/>
            <a:ext cx="1067400" cy="39924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226" name="TextBox 3"/>
          <p:cNvSpPr/>
          <p:nvPr/>
        </p:nvSpPr>
        <p:spPr>
          <a:xfrm>
            <a:off x="4554360" y="5638680"/>
            <a:ext cx="2832480" cy="337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Create window, call it “bitmap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Calibri"/>
                <a:ea typeface="Calibri"/>
              </a:rPr>
              <a:t>CUDA Graphics Interoperability</a:t>
            </a:r>
            <a:endParaRPr b="1" lang="en-US" sz="36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Then comes the actual interoper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Shared buffers are key for CUDA graphics interoper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  <a:ea typeface="Calibri"/>
              </a:rPr>
              <a:t>pixel buffer object (PBO)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is off-screen buffer for storing pixe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First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Create a 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  <a:ea typeface="Calibri"/>
              </a:rPr>
              <a:t>pixel buffer object (PBO)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in OpenGL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Store the handle in global variable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Gluint bufferObj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9" name="Picture 2" descr=""/>
          <p:cNvPicPr/>
          <p:nvPr/>
        </p:nvPicPr>
        <p:blipFill>
          <a:blip r:embed="rId1"/>
          <a:stretch/>
        </p:blipFill>
        <p:spPr>
          <a:xfrm>
            <a:off x="152280" y="4343400"/>
            <a:ext cx="7304040" cy="1419120"/>
          </a:xfrm>
          <a:prstGeom prst="rect">
            <a:avLst/>
          </a:prstGeom>
          <a:ln w="0">
            <a:noFill/>
          </a:ln>
        </p:spPr>
      </p:pic>
      <p:sp>
        <p:nvSpPr>
          <p:cNvPr id="230" name="Rectangle 4"/>
          <p:cNvSpPr/>
          <p:nvPr/>
        </p:nvSpPr>
        <p:spPr>
          <a:xfrm>
            <a:off x="2971800" y="6124680"/>
            <a:ext cx="1523880" cy="733320"/>
          </a:xfrm>
          <a:prstGeom prst="rect">
            <a:avLst/>
          </a:prstGeom>
          <a:solidFill>
            <a:srgbClr val="cccc00"/>
          </a:solidFill>
          <a:ln w="25560">
            <a:solidFill>
              <a:srgbClr val="95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Shar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Buf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Box 5"/>
          <p:cNvSpPr/>
          <p:nvPr/>
        </p:nvSpPr>
        <p:spPr>
          <a:xfrm>
            <a:off x="152280" y="6019920"/>
            <a:ext cx="914400" cy="3373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Box 6"/>
          <p:cNvSpPr/>
          <p:nvPr/>
        </p:nvSpPr>
        <p:spPr>
          <a:xfrm>
            <a:off x="5867280" y="6248520"/>
            <a:ext cx="1067040" cy="3373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penG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3" name="Straight Arrow Connector 7"/>
          <p:cNvCxnSpPr>
            <a:stCxn id="231" idx="3"/>
            <a:endCxn id="230" idx="1"/>
          </p:cNvCxnSpPr>
          <p:nvPr/>
        </p:nvCxnSpPr>
        <p:spPr>
          <a:xfrm>
            <a:off x="1066680" y="6189480"/>
            <a:ext cx="1905840" cy="3020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34" name="Straight Arrow Connector 8"/>
          <p:cNvCxnSpPr>
            <a:endCxn id="232" idx="1"/>
          </p:cNvCxnSpPr>
          <p:nvPr/>
        </p:nvCxnSpPr>
        <p:spPr>
          <a:xfrm flipV="1">
            <a:off x="4495680" y="6417720"/>
            <a:ext cx="1372320" cy="59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235" name="Picture 3" descr=""/>
          <p:cNvPicPr/>
          <p:nvPr/>
        </p:nvPicPr>
        <p:blipFill>
          <a:blip r:embed="rId2"/>
          <a:stretch/>
        </p:blipFill>
        <p:spPr>
          <a:xfrm>
            <a:off x="7543800" y="5867280"/>
            <a:ext cx="990720" cy="990720"/>
          </a:xfrm>
          <a:prstGeom prst="rect">
            <a:avLst/>
          </a:prstGeom>
          <a:ln w="0">
            <a:noFill/>
          </a:ln>
        </p:spPr>
      </p:pic>
      <p:cxnSp>
        <p:nvCxnSpPr>
          <p:cNvPr id="236" name="Straight Arrow Connector 10"/>
          <p:cNvCxnSpPr>
            <a:stCxn id="232" idx="3"/>
          </p:cNvCxnSpPr>
          <p:nvPr/>
        </p:nvCxnSpPr>
        <p:spPr>
          <a:xfrm flipV="1">
            <a:off x="6933960" y="6361920"/>
            <a:ext cx="610200" cy="56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37" name="TextBox 11"/>
          <p:cNvSpPr/>
          <p:nvPr/>
        </p:nvSpPr>
        <p:spPr>
          <a:xfrm>
            <a:off x="1066680" y="632448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*resour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Box 12"/>
          <p:cNvSpPr/>
          <p:nvPr/>
        </p:nvSpPr>
        <p:spPr>
          <a:xfrm>
            <a:off x="4495680" y="647712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fferOb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Straight Arrow Connector 25"/>
          <p:cNvCxnSpPr>
            <a:stCxn id="240" idx="1"/>
          </p:cNvCxnSpPr>
          <p:nvPr/>
        </p:nvCxnSpPr>
        <p:spPr>
          <a:xfrm flipH="1">
            <a:off x="6400440" y="4743000"/>
            <a:ext cx="457920" cy="43884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240" name="TextBox 3"/>
          <p:cNvSpPr/>
          <p:nvPr/>
        </p:nvSpPr>
        <p:spPr>
          <a:xfrm>
            <a:off x="6865560" y="4419720"/>
            <a:ext cx="2139120" cy="642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Allocate DIM x DI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32-bit values for PB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Calibri"/>
                <a:ea typeface="Calibri"/>
              </a:rPr>
              <a:t>CUDA Graphics Interoperability</a:t>
            </a:r>
            <a:endParaRPr b="1" lang="en-US" sz="36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Finally we notify CUDA runtime we intend to share the OpenGL buffer calle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ufferObj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To accomplish this we registe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ufferObj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as a graphics resour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3" name="Picture 2" descr=""/>
          <p:cNvPicPr/>
          <p:nvPr/>
        </p:nvPicPr>
        <p:blipFill>
          <a:blip r:embed="rId1"/>
          <a:stretch/>
        </p:blipFill>
        <p:spPr>
          <a:xfrm>
            <a:off x="353880" y="4114800"/>
            <a:ext cx="7294680" cy="1619280"/>
          </a:xfrm>
          <a:prstGeom prst="rect">
            <a:avLst/>
          </a:prstGeom>
          <a:ln w="0">
            <a:noFill/>
          </a:ln>
        </p:spPr>
      </p:pic>
      <p:sp>
        <p:nvSpPr>
          <p:cNvPr id="244" name="TextBox 4"/>
          <p:cNvSpPr/>
          <p:nvPr/>
        </p:nvSpPr>
        <p:spPr>
          <a:xfrm>
            <a:off x="978120" y="5899320"/>
            <a:ext cx="323640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Graphics handle to shared buf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Straight Arrow Connector 5"/>
          <p:cNvCxnSpPr>
            <a:stCxn id="244" idx="0"/>
          </p:cNvCxnSpPr>
          <p:nvPr/>
        </p:nvCxnSpPr>
        <p:spPr>
          <a:xfrm flipV="1">
            <a:off x="2595600" y="4952160"/>
            <a:ext cx="1937520" cy="94716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246" name="TextBox 6"/>
          <p:cNvSpPr/>
          <p:nvPr/>
        </p:nvSpPr>
        <p:spPr>
          <a:xfrm>
            <a:off x="5041440" y="3657600"/>
            <a:ext cx="296496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CUDA handle to shared buf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7" name="Straight Arrow Connector 7"/>
          <p:cNvCxnSpPr>
            <a:stCxn id="246" idx="2"/>
          </p:cNvCxnSpPr>
          <p:nvPr/>
        </p:nvCxnSpPr>
        <p:spPr>
          <a:xfrm flipH="1">
            <a:off x="5637960" y="4026960"/>
            <a:ext cx="886680" cy="62172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248" name="TextBox 12"/>
          <p:cNvSpPr/>
          <p:nvPr/>
        </p:nvSpPr>
        <p:spPr>
          <a:xfrm>
            <a:off x="4854240" y="5952960"/>
            <a:ext cx="3398040" cy="642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Specifies we do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NOT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 care to mak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this read-or write-on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9" name="Straight Arrow Connector 13"/>
          <p:cNvCxnSpPr>
            <a:stCxn id="248" idx="0"/>
          </p:cNvCxnSpPr>
          <p:nvPr/>
        </p:nvCxnSpPr>
        <p:spPr>
          <a:xfrm flipH="1" flipV="1">
            <a:off x="6163920" y="5425560"/>
            <a:ext cx="389520" cy="52776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Calibri"/>
                <a:ea typeface="Calibri"/>
              </a:rPr>
              <a:t>CUDA Graphics Interoperability</a:t>
            </a:r>
            <a:endParaRPr b="1" lang="en-US" sz="36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Instead of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cudaGraphicsMapFlagsNon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, we could 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cudaGraphicsMapFlagsReadOnl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: buffer is read-on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cudaGraphicsMapFlagsWriteOnl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: buffer is write-on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To read and write to shared buffer, we need its addr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So w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Tell CUDA runtime to map [addresses of] shared resour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Request a pointer to mapped resour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2" name="Picture 2" descr=""/>
          <p:cNvPicPr/>
          <p:nvPr/>
        </p:nvPicPr>
        <p:blipFill>
          <a:blip r:embed="rId1"/>
          <a:stretch/>
        </p:blipFill>
        <p:spPr>
          <a:xfrm>
            <a:off x="533520" y="4648320"/>
            <a:ext cx="6019560" cy="2131920"/>
          </a:xfrm>
          <a:prstGeom prst="rect">
            <a:avLst/>
          </a:prstGeom>
          <a:ln w="0">
            <a:noFill/>
          </a:ln>
        </p:spPr>
      </p:pic>
      <p:sp>
        <p:nvSpPr>
          <p:cNvPr id="253" name="TextBox 4"/>
          <p:cNvSpPr/>
          <p:nvPr/>
        </p:nvSpPr>
        <p:spPr>
          <a:xfrm>
            <a:off x="6553080" y="4648320"/>
            <a:ext cx="236232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Can us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devPt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as any device point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OpenGL can also use data as pixel sou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4" name="Straight Arrow Connector 5"/>
          <p:cNvCxnSpPr/>
          <p:nvPr/>
        </p:nvCxnSpPr>
        <p:spPr>
          <a:xfrm flipH="1">
            <a:off x="5866560" y="5295600"/>
            <a:ext cx="686520" cy="46404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255" name="TextBox 4"/>
          <p:cNvSpPr/>
          <p:nvPr/>
        </p:nvSpPr>
        <p:spPr>
          <a:xfrm>
            <a:off x="6629400" y="5983200"/>
            <a:ext cx="2362320" cy="642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Size in bytes of mapped resou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6" name="Straight Arrow Connector 7"/>
          <p:cNvCxnSpPr/>
          <p:nvPr/>
        </p:nvCxnSpPr>
        <p:spPr>
          <a:xfrm flipH="1" flipV="1">
            <a:off x="5257440" y="6095520"/>
            <a:ext cx="1372320" cy="11664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Calibri"/>
                <a:ea typeface="Calibri"/>
              </a:rPr>
              <a:t>CUDA Graphics Interoperability</a:t>
            </a:r>
            <a:endParaRPr b="1" lang="en-US" sz="36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The rest of main( ) is as follow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457200">
              <a:spcBef>
                <a:spcPts val="499"/>
              </a:spcBef>
              <a:buClr>
                <a:srgbClr val="669999"/>
              </a:buClr>
              <a:buSzPct val="7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Launch our kernel, passing it the pointer to our shared buff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(Kernel generates image to be rendered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457200">
              <a:spcBef>
                <a:spcPts val="499"/>
              </a:spcBef>
              <a:buClr>
                <a:srgbClr val="669999"/>
              </a:buClr>
              <a:buSzPct val="70000"/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Unmap our shared resource (Done with buffer!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Last, we register keyboard and display callback functions then get into glutMainLoop( ) which does render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9" name="Picture 2" descr=""/>
          <p:cNvPicPr/>
          <p:nvPr/>
        </p:nvPicPr>
        <p:blipFill>
          <a:blip r:embed="rId1"/>
          <a:stretch/>
        </p:blipFill>
        <p:spPr>
          <a:xfrm>
            <a:off x="533520" y="4038480"/>
            <a:ext cx="6083280" cy="2803680"/>
          </a:xfrm>
          <a:prstGeom prst="rect">
            <a:avLst/>
          </a:prstGeom>
          <a:ln w="0">
            <a:noFill/>
          </a:ln>
        </p:spPr>
      </p:pic>
      <p:cxnSp>
        <p:nvCxnSpPr>
          <p:cNvPr id="260" name="Straight Arrow Connector 5"/>
          <p:cNvCxnSpPr/>
          <p:nvPr/>
        </p:nvCxnSpPr>
        <p:spPr>
          <a:xfrm flipH="1">
            <a:off x="3656880" y="5295600"/>
            <a:ext cx="2896200" cy="57204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61" name="Straight Arrow Connector 7"/>
          <p:cNvCxnSpPr/>
          <p:nvPr/>
        </p:nvCxnSpPr>
        <p:spPr>
          <a:xfrm flipH="1" flipV="1">
            <a:off x="3657600" y="6171480"/>
            <a:ext cx="2667240" cy="22932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262" name="TextBox 4"/>
          <p:cNvSpPr/>
          <p:nvPr/>
        </p:nvSpPr>
        <p:spPr>
          <a:xfrm>
            <a:off x="4800600" y="6027840"/>
            <a:ext cx="2362320" cy="82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Draw_func is GLUT function where drawing is do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Box 4"/>
          <p:cNvSpPr/>
          <p:nvPr/>
        </p:nvSpPr>
        <p:spPr>
          <a:xfrm>
            <a:off x="6400800" y="5105520"/>
            <a:ext cx="2743200" cy="82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Key_func is GLUT function, accepts/responds to keystrok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Calibri"/>
                <a:ea typeface="Calibri"/>
              </a:rPr>
              <a:t>CUDA Graphics Interoperability</a:t>
            </a:r>
            <a:endParaRPr b="1" lang="en-US" sz="36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57200" y="152352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Kernel takes device pointer and generates image data (similar to ripple exampl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6" name="Picture 2" descr=""/>
          <p:cNvPicPr/>
          <p:nvPr/>
        </p:nvPicPr>
        <p:blipFill>
          <a:blip r:embed="rId1"/>
          <a:stretch/>
        </p:blipFill>
        <p:spPr>
          <a:xfrm>
            <a:off x="1828800" y="2281320"/>
            <a:ext cx="5486400" cy="45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Calibri"/>
                <a:ea typeface="Calibri"/>
              </a:rPr>
              <a:t>CUDA Graphics Interoperability</a:t>
            </a:r>
            <a:endParaRPr b="1" lang="en-US" sz="36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How to draw the CUDA-generated buffer using OpenGL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Recall the following call when we created PBO in main( 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glBindBuffer(GL_PIXEL_UNPACK_BUFFER_ARB, bufferObj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Above call bounds shared buffer as pixel source for OpenGL driver to use in subsequent calls to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glDrawPixels( 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Any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glDrawPixels( )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 calls renders image rendered by CUD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Our draw_func looks like thi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9" name="Picture 2" descr=""/>
          <p:cNvPicPr/>
          <p:nvPr/>
        </p:nvPicPr>
        <p:blipFill>
          <a:blip r:embed="rId1"/>
          <a:stretch/>
        </p:blipFill>
        <p:spPr>
          <a:xfrm>
            <a:off x="304920" y="5491080"/>
            <a:ext cx="6933960" cy="1366920"/>
          </a:xfrm>
          <a:prstGeom prst="rect">
            <a:avLst/>
          </a:prstGeom>
          <a:ln w="0">
            <a:noFill/>
          </a:ln>
        </p:spPr>
      </p:pic>
      <p:cxnSp>
        <p:nvCxnSpPr>
          <p:cNvPr id="270" name="Straight Arrow Connector 4"/>
          <p:cNvCxnSpPr/>
          <p:nvPr/>
        </p:nvCxnSpPr>
        <p:spPr>
          <a:xfrm flipH="1">
            <a:off x="3047760" y="6324480"/>
            <a:ext cx="1296000" cy="864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271" name="TextBox 4"/>
          <p:cNvSpPr/>
          <p:nvPr/>
        </p:nvSpPr>
        <p:spPr>
          <a:xfrm>
            <a:off x="4267080" y="6172200"/>
            <a:ext cx="4114800" cy="337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Double buffering: Swap front and back buf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2" name="Straight Arrow Connector 6"/>
          <p:cNvCxnSpPr>
            <a:stCxn id="273" idx="1"/>
          </p:cNvCxnSpPr>
          <p:nvPr/>
        </p:nvCxnSpPr>
        <p:spPr>
          <a:xfrm flipH="1">
            <a:off x="5028840" y="5427360"/>
            <a:ext cx="2286720" cy="44028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273" name="TextBox 4"/>
          <p:cNvSpPr/>
          <p:nvPr/>
        </p:nvSpPr>
        <p:spPr>
          <a:xfrm>
            <a:off x="7315200" y="5257800"/>
            <a:ext cx="1676520" cy="337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Draws from PB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Calibri"/>
              </a:rPr>
              <a:t>Outline</a:t>
            </a:r>
            <a:endParaRPr b="1" lang="en-US" sz="39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Graphics interoperabil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Atomic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Concurrent execution between host and devi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Pagelocked memo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Calibri"/>
                <a:ea typeface="Calibri"/>
              </a:rPr>
              <a:t>CUDA Graphics Interoperability</a:t>
            </a:r>
            <a:endParaRPr b="1" lang="en-US" sz="36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Our GLUT keyboard callback function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key_func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If user hits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Esc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ke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Cleans up (Unmaps resource, deletes buffer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exits progra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6" name="Picture 2" descr=""/>
          <p:cNvPicPr/>
          <p:nvPr/>
        </p:nvPicPr>
        <p:blipFill>
          <a:blip r:embed="rId1"/>
          <a:stretch/>
        </p:blipFill>
        <p:spPr>
          <a:xfrm>
            <a:off x="838080" y="3429000"/>
            <a:ext cx="729468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66"/>
                </a:solidFill>
                <a:latin typeface="Calibri"/>
                <a:ea typeface="Calibri"/>
              </a:rPr>
              <a:t>Graphics Interoperability (Full Program)</a:t>
            </a:r>
            <a:endParaRPr b="1" lang="en-US" sz="32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#include "../common/book.h"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#include "../common/cpu_bitmap.h"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#include "cuda.h"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#include "cuda_gl_interop.h"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FNGLBINDBUFFERARBPROC    glBindBuffer     = NULL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FNGLDELETEBUFFERSARBPROC glDeleteBuffers  = NULL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FNGLGENBUFFERSARBPROC    glGenBuffers     = NULL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FNGLBUFFERDATAARBPROC    glBufferData     = NULL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66"/>
                </a:solidFill>
                <a:latin typeface="Calibri"/>
                <a:ea typeface="Calibri"/>
              </a:rPr>
              <a:t>Graphics Interoperability (Full Program)</a:t>
            </a:r>
            <a:endParaRPr b="1" lang="en-US" sz="32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#define     DIM    51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GLuint  bufferObj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udaGraphicsResource *resource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__global__ void kernel( uchar4 *ptr ) {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// map from threadIdx/BlockIdx to pixel posi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x = threadIdx.x + blockIdx.x * blockDim.x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y = threadIdx.y + blockIdx.y * blockDim.y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offset = x + y * blockDim.x * gridDim.x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66"/>
                </a:solidFill>
                <a:latin typeface="Calibri"/>
                <a:ea typeface="Calibri"/>
              </a:rPr>
              <a:t>Graphics Interoperability (Full Program)</a:t>
            </a:r>
            <a:endParaRPr b="1" lang="en-US" sz="32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// now calculate the value at that posi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loat fx = x/(float)DIM - 0.5f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loat fy = y/(float)DIM - 0.5f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unsigned char   green = 128 + 127 *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in( abs(fx*100) - abs(fy*100) 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// accessing uchar4 vs unsigned char*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tr[offset].x = 0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tr[offset].y = green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tr[offset].z = 0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tr[offset].w = 255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66"/>
                </a:solidFill>
                <a:latin typeface="Calibri"/>
                <a:ea typeface="Calibri"/>
              </a:rPr>
              <a:t>Graphics Interoperability (Full Program)</a:t>
            </a:r>
            <a:endParaRPr b="1" lang="en-US" sz="32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tatic void key_func( unsigned char key, int x, int y ) {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witch (key) {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ase 27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// clean up OpenGL and CUD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HANDLE_ERROR(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udaGraphicsUnregisterResource( resource ) 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glBindBuffer( GL_PIXEL_UNPACK_BUFFER_ARB, 0 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glDeleteBuffers( 1, &amp;bufferObj 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xit(0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66"/>
                </a:solidFill>
                <a:latin typeface="Calibri"/>
                <a:ea typeface="Calibri"/>
              </a:rPr>
              <a:t>Graphics Interoperability (Full Program)</a:t>
            </a:r>
            <a:endParaRPr b="1" lang="en-US" sz="32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tatic void draw_func( void ) {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glDrawPixels( DIM, DIM, GL_RGBA,GL_UNSIGNED_BYTE, 0 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glutSwapBuffers(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87" name="Straight Arrow Connector 3"/>
          <p:cNvCxnSpPr>
            <a:stCxn id="288" idx="2"/>
          </p:cNvCxnSpPr>
          <p:nvPr/>
        </p:nvCxnSpPr>
        <p:spPr>
          <a:xfrm>
            <a:off x="2514240" y="3919320"/>
            <a:ext cx="686520" cy="50076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288" name="TextBox 4"/>
          <p:cNvSpPr/>
          <p:nvPr/>
        </p:nvSpPr>
        <p:spPr>
          <a:xfrm>
            <a:off x="2133720" y="3581280"/>
            <a:ext cx="761760" cy="337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Wid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9" name="Straight Arrow Connector 9"/>
          <p:cNvCxnSpPr>
            <a:stCxn id="290" idx="2"/>
          </p:cNvCxnSpPr>
          <p:nvPr/>
        </p:nvCxnSpPr>
        <p:spPr>
          <a:xfrm>
            <a:off x="3886200" y="3885840"/>
            <a:ext cx="76680" cy="61020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290" name="TextBox 10"/>
          <p:cNvSpPr/>
          <p:nvPr/>
        </p:nvSpPr>
        <p:spPr>
          <a:xfrm>
            <a:off x="3505320" y="3548160"/>
            <a:ext cx="761760" cy="337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He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1" name="Straight Arrow Connector 11"/>
          <p:cNvCxnSpPr>
            <a:stCxn id="292" idx="2"/>
          </p:cNvCxnSpPr>
          <p:nvPr/>
        </p:nvCxnSpPr>
        <p:spPr>
          <a:xfrm flipH="1">
            <a:off x="5257080" y="4208040"/>
            <a:ext cx="362520" cy="21204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292" name="TextBox 12"/>
          <p:cNvSpPr/>
          <p:nvPr/>
        </p:nvSpPr>
        <p:spPr>
          <a:xfrm>
            <a:off x="5067360" y="3624120"/>
            <a:ext cx="1104840" cy="58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Format of pixel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3" name="Straight Arrow Connector 19"/>
          <p:cNvCxnSpPr>
            <a:stCxn id="294" idx="0"/>
          </p:cNvCxnSpPr>
          <p:nvPr/>
        </p:nvCxnSpPr>
        <p:spPr>
          <a:xfrm flipV="1">
            <a:off x="6724800" y="4647600"/>
            <a:ext cx="210240" cy="53388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294" name="TextBox 20"/>
          <p:cNvSpPr/>
          <p:nvPr/>
        </p:nvSpPr>
        <p:spPr>
          <a:xfrm>
            <a:off x="6172200" y="5181480"/>
            <a:ext cx="1104840" cy="58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Type of pixel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66"/>
                </a:solidFill>
                <a:latin typeface="Calibri"/>
                <a:ea typeface="Calibri"/>
              </a:rPr>
              <a:t>Graphics Interoperability (Full Program)</a:t>
            </a:r>
            <a:endParaRPr b="1" lang="en-US" sz="32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main( int argc, char **argv ) {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udaDeviceProp  prop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dev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memset( &amp;prop, 0, sizeof( cudaDeviceProp ) 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rop.major = 1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rop.minor = 0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HANDLE_ERROR( cudaChooseDevice( &amp;dev, &amp;prop ) 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97" name="Straight Arrow Connector 5"/>
          <p:cNvCxnSpPr>
            <a:stCxn id="298" idx="0"/>
          </p:cNvCxnSpPr>
          <p:nvPr/>
        </p:nvCxnSpPr>
        <p:spPr>
          <a:xfrm flipH="1" flipV="1">
            <a:off x="6705000" y="4342680"/>
            <a:ext cx="867240" cy="61020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298" name="TextBox 6"/>
          <p:cNvSpPr/>
          <p:nvPr/>
        </p:nvSpPr>
        <p:spPr>
          <a:xfrm>
            <a:off x="6458040" y="4952880"/>
            <a:ext cx="2228760" cy="58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Specifies constraints (CUDA 1.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9" name="Straight Arrow Connector 7"/>
          <p:cNvCxnSpPr>
            <a:stCxn id="300" idx="0"/>
          </p:cNvCxnSpPr>
          <p:nvPr/>
        </p:nvCxnSpPr>
        <p:spPr>
          <a:xfrm flipV="1">
            <a:off x="4514760" y="4343040"/>
            <a:ext cx="1124640" cy="53424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300" name="TextBox 8"/>
          <p:cNvSpPr/>
          <p:nvPr/>
        </p:nvSpPr>
        <p:spPr>
          <a:xfrm>
            <a:off x="3048120" y="4876920"/>
            <a:ext cx="2933640" cy="58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ID of device meeting constraint specified in pr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66"/>
                </a:solidFill>
                <a:latin typeface="Calibri"/>
                <a:ea typeface="Calibri"/>
              </a:rPr>
              <a:t>Graphics Interoperability (Full Program)</a:t>
            </a:r>
            <a:endParaRPr b="1" lang="en-US" sz="32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// tell CUDA dev we will be using for graphic intero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CUDA programming guide:  Interoperability with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// OpenGL requires the CUDA device be specified b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//  cudaGLSetGLDevice() before any other //runtime call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HANDLE_ERROR( cudaGLSetGLDevice( dev ) 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03" name="Straight Arrow Connector 3"/>
          <p:cNvCxnSpPr>
            <a:stCxn id="304" idx="0"/>
          </p:cNvCxnSpPr>
          <p:nvPr/>
        </p:nvCxnSpPr>
        <p:spPr>
          <a:xfrm flipV="1">
            <a:off x="4629240" y="4368240"/>
            <a:ext cx="1124640" cy="53388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304" name="TextBox 4"/>
          <p:cNvSpPr/>
          <p:nvPr/>
        </p:nvSpPr>
        <p:spPr>
          <a:xfrm>
            <a:off x="3162240" y="4902120"/>
            <a:ext cx="2933640" cy="82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ID of device returned by cudaChooseDevice( ), meets constraint specified in pr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66"/>
                </a:solidFill>
                <a:latin typeface="Calibri"/>
                <a:ea typeface="Calibri"/>
              </a:rPr>
              <a:t>Graphics Interoperability (Full Program)</a:t>
            </a:r>
            <a:endParaRPr b="1" lang="en-US" sz="32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// these GLUT calls need to be made before OpenG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// calls, else we get a seg faul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glutInit( &amp;argc, argv 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glutInitDisplayMode( GLUT_DOUBLE | GLUT_RGBA 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glutInitWindowSize( DIM, DIM 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glutCreateWindow( "bitmap" 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glBindBuffer    = (PFNGLBINDBUFFERARBPROC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GET_PROC_ADDRESS("glBindBuffer"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glDeleteBuffers = (PFNGLDELETEBUFFERSARBPROC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GET_PROC_ADDRESS("glDeleteBuffers"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66"/>
                </a:solidFill>
                <a:latin typeface="Calibri"/>
                <a:ea typeface="Calibri"/>
              </a:rPr>
              <a:t>Graphics Interoperability (Full Program)</a:t>
            </a:r>
            <a:endParaRPr b="1" lang="en-US" sz="32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glGenBuffers    = (PFNGLGENBUFFERSARBPROC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GET_PROC_ADDRESS("glGenBuffers"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glBufferData    = (PFNGLBUFFERDATAARBPROC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GET_PROC_ADDRESS("glBufferData"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glGenBuffers( 1, &amp;bufferObj 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glBindBuffer( GL_PIXEL_UNPACK_BUFFER_ARB,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bufferObj 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glBufferData( GL_PIXEL_UNPACK_BUFFER_ARB, DIM *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DIM * 4, NULL, GL_DYNAMIC_DRAW_ARB 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Calibri"/>
                <a:ea typeface="Calibri"/>
              </a:rPr>
              <a:t>CUDA graphics Interoperability</a:t>
            </a:r>
            <a:endParaRPr b="1" lang="en-US" sz="36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Remember: G in GPU stands for Graphic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GPUs first good at graphics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2280" indent="-34776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Then General Purpose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  <a:ea typeface="Calibri"/>
              </a:rPr>
              <a:t>GP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GPU (non-graphic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Sometimes want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2280" indent="-347760"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  <a:ea typeface="Calibri"/>
              </a:rPr>
              <a:t>complex calculation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+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  <a:ea typeface="Calibri"/>
              </a:rPr>
              <a:t>graphics render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66"/>
                </a:solidFill>
                <a:latin typeface="Calibri"/>
                <a:ea typeface="Calibri"/>
              </a:rPr>
              <a:t>Graphics Interoperability (Full Program)</a:t>
            </a:r>
            <a:endParaRPr b="1" lang="en-US" sz="32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// Tell CUDA want to use buffer for CUDA + graphic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HANDLE_ERROR( cudaGraphicsGLRegisterBuffer( &amp;resource,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bufferObj, cudaGraphicsMapFlagsNone ) 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// map the shared buffer address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HANDLE_ERROR( cudaGraphicsMapResources( 1,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amp;resource, NULL ) 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uchar4* devPtr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ize_t  size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66"/>
                </a:solidFill>
                <a:latin typeface="Calibri"/>
                <a:ea typeface="Calibri"/>
              </a:rPr>
              <a:t>Graphics Interoperability (Full Program)</a:t>
            </a:r>
            <a:endParaRPr b="1" lang="en-US" sz="32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// Get ptr to mapped buffer addresse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HANDLE_ERROR(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udaGraphicsResourceGetMappedPointer(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(void**)&amp;devPtr, &amp;size, resource) 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dim3    grids(DIM/16,DIM/16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dim3    threads(16,16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kernel&lt;&lt;&lt;grids,threads&gt;&gt;&gt;( devPtr 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// done with calculation, unmap resour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HANDLE_ERROR( cudaGraphicsUnmapResources( 1,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&amp;resource, NULL ) 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66"/>
                </a:solidFill>
                <a:latin typeface="Calibri"/>
                <a:ea typeface="Calibri"/>
              </a:rPr>
              <a:t>Graphics Interoperability (Full Program)</a:t>
            </a:r>
            <a:endParaRPr b="1" lang="en-US" sz="32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// set up GLUT keyboard and draw functions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// then sit in GLUT main loo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glutKeyboardFunc( key_func 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glutDisplayFunc( draw_func 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glutMainLoop(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Calibri"/>
                <a:ea typeface="Calibri"/>
              </a:rPr>
              <a:t>CUDA graphics Interoperability</a:t>
            </a:r>
            <a:endParaRPr b="1" lang="en-US" sz="36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Resulting imag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7" name="Picture 4" descr=""/>
          <p:cNvPicPr/>
          <p:nvPr/>
        </p:nvPicPr>
        <p:blipFill>
          <a:blip r:embed="rId1"/>
          <a:stretch/>
        </p:blipFill>
        <p:spPr>
          <a:xfrm>
            <a:off x="1981080" y="2514600"/>
            <a:ext cx="5589720" cy="41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TextBox 2"/>
          <p:cNvSpPr/>
          <p:nvPr/>
        </p:nvSpPr>
        <p:spPr>
          <a:xfrm>
            <a:off x="152280" y="533520"/>
            <a:ext cx="7878960" cy="75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Atomics and Critical Se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Box 4"/>
          <p:cNvSpPr/>
          <p:nvPr/>
        </p:nvSpPr>
        <p:spPr>
          <a:xfrm>
            <a:off x="1477440" y="2133720"/>
            <a:ext cx="5690520" cy="31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Now introduce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Accessing shared data by multiple thread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Atomic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Critical section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Compare and swap instruction and usag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Memory fence instruction and usag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5"/>
          <p:cNvSpPr/>
          <p:nvPr/>
        </p:nvSpPr>
        <p:spPr>
          <a:xfrm>
            <a:off x="838080" y="5410080"/>
            <a:ext cx="1752840" cy="3812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Calibri"/>
              </a:rPr>
              <a:t>Atomic Functions</a:t>
            </a:r>
            <a:endParaRPr b="1" lang="en-US" sz="39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322" name="Rectangle 3"/>
          <p:cNvSpPr/>
          <p:nvPr/>
        </p:nvSpPr>
        <p:spPr>
          <a:xfrm>
            <a:off x="838080" y="4648320"/>
            <a:ext cx="762012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7680" indent="-403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60093"/>
                </a:solidFill>
                <a:latin typeface="Courier New"/>
              </a:rPr>
              <a:t>__device__ </a:t>
            </a:r>
            <a:r>
              <a:rPr b="1" lang="en-US" sz="2000" spc="-1" strike="noStrike">
                <a:solidFill>
                  <a:srgbClr val="b3b3b3"/>
                </a:solidFill>
                <a:latin typeface="Courier New"/>
              </a:rPr>
              <a:t>unsigned int </a:t>
            </a:r>
            <a:r>
              <a:rPr b="1" lang="en-US" sz="2000" spc="-1" strike="noStrike">
                <a:solidFill>
                  <a:srgbClr val="330066"/>
                </a:solidFill>
                <a:latin typeface="Courier New"/>
              </a:rPr>
              <a:t>count = 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7680" indent="-403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7680" indent="-403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0066"/>
                </a:solidFill>
                <a:latin typeface="Courier New"/>
              </a:rPr>
              <a:t>++coun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Content Placeholder 2"/>
          <p:cNvSpPr/>
          <p:nvPr/>
        </p:nvSpPr>
        <p:spPr>
          <a:xfrm>
            <a:off x="457200" y="320040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value of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coun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f 8 threads execute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++coun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Content Placeholder 2"/>
          <p:cNvSpPr/>
          <p:nvPr/>
        </p:nvSpPr>
        <p:spPr>
          <a:xfrm>
            <a:off x="457200" y="182880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n cause problems if multiple threads modify the same vari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5"/>
          <p:cNvSpPr/>
          <p:nvPr/>
        </p:nvSpPr>
        <p:spPr>
          <a:xfrm>
            <a:off x="838080" y="5410080"/>
            <a:ext cx="1752840" cy="3812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Calibri"/>
              </a:rPr>
              <a:t>Atomic Functions</a:t>
            </a:r>
            <a:endParaRPr b="1" lang="en-US" sz="39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327" name="Rectangle 3"/>
          <p:cNvSpPr/>
          <p:nvPr/>
        </p:nvSpPr>
        <p:spPr>
          <a:xfrm>
            <a:off x="838080" y="4648320"/>
            <a:ext cx="762012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7680" indent="-403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60093"/>
                </a:solidFill>
                <a:latin typeface="Courier New"/>
              </a:rPr>
              <a:t>__device__ </a:t>
            </a:r>
            <a:r>
              <a:rPr b="1" lang="en-US" sz="2000" spc="-1" strike="noStrike">
                <a:solidFill>
                  <a:srgbClr val="b3b3b3"/>
                </a:solidFill>
                <a:latin typeface="Courier New"/>
              </a:rPr>
              <a:t>unsigned int </a:t>
            </a:r>
            <a:r>
              <a:rPr b="1" lang="en-US" sz="2000" spc="-1" strike="noStrike">
                <a:solidFill>
                  <a:srgbClr val="330066"/>
                </a:solidFill>
                <a:latin typeface="Courier New"/>
              </a:rPr>
              <a:t>count = 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7680" indent="-403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7680" indent="-403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0066"/>
                </a:solidFill>
                <a:latin typeface="Courier New"/>
              </a:rPr>
              <a:t>++coun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Content Placeholder 2"/>
          <p:cNvSpPr/>
          <p:nvPr/>
        </p:nvSpPr>
        <p:spPr>
          <a:xfrm>
            <a:off x="457200" y="320040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value of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coun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f 8 threads execute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++coun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Content Placeholder 2"/>
          <p:cNvSpPr/>
          <p:nvPr/>
        </p:nvSpPr>
        <p:spPr>
          <a:xfrm>
            <a:off x="457200" y="182880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n cause problems if multiple threads modify the same vari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6"/>
          <p:cNvSpPr/>
          <p:nvPr/>
        </p:nvSpPr>
        <p:spPr>
          <a:xfrm>
            <a:off x="3962520" y="5400720"/>
            <a:ext cx="4952880" cy="8380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Box 7"/>
          <p:cNvSpPr/>
          <p:nvPr/>
        </p:nvSpPr>
        <p:spPr>
          <a:xfrm>
            <a:off x="3962520" y="5400720"/>
            <a:ext cx="5486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s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to 8  Maybe 1 if all threads are in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me warp and issued at the same ti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4"/>
          <p:cNvSpPr/>
          <p:nvPr/>
        </p:nvSpPr>
        <p:spPr>
          <a:xfrm>
            <a:off x="685800" y="1494000"/>
            <a:ext cx="8458200" cy="234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ts val="253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Accessing shared data needs careful control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3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3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Consider two threads each of which is to add one to a shared data item, x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3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3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Location x is read, x + 1 computed, and result written back to the same location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4"/>
          <p:cNvSpPr/>
          <p:nvPr/>
        </p:nvSpPr>
        <p:spPr>
          <a:xfrm>
            <a:off x="2028600" y="387360"/>
            <a:ext cx="4800960" cy="69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ccessing Shared D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Box 5"/>
          <p:cNvSpPr/>
          <p:nvPr/>
        </p:nvSpPr>
        <p:spPr>
          <a:xfrm>
            <a:off x="777600" y="4041720"/>
            <a:ext cx="1563840" cy="4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Instructio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Box 6"/>
          <p:cNvSpPr/>
          <p:nvPr/>
        </p:nvSpPr>
        <p:spPr>
          <a:xfrm>
            <a:off x="914400" y="4397400"/>
            <a:ext cx="1309320" cy="4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ff"/>
                </a:solidFill>
                <a:latin typeface="Calibri"/>
              </a:rPr>
              <a:t>x = x + 1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Box 7"/>
          <p:cNvSpPr/>
          <p:nvPr/>
        </p:nvSpPr>
        <p:spPr>
          <a:xfrm>
            <a:off x="6306480" y="4041720"/>
            <a:ext cx="1304640" cy="4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Thread 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Box 8"/>
          <p:cNvSpPr/>
          <p:nvPr/>
        </p:nvSpPr>
        <p:spPr>
          <a:xfrm>
            <a:off x="3264840" y="4041720"/>
            <a:ext cx="1304640" cy="4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Thread 1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Box 9"/>
          <p:cNvSpPr/>
          <p:nvPr/>
        </p:nvSpPr>
        <p:spPr>
          <a:xfrm>
            <a:off x="3267360" y="4327560"/>
            <a:ext cx="2053080" cy="17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ff"/>
                </a:solidFill>
                <a:latin typeface="Calibri"/>
              </a:rPr>
              <a:t>Read x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ff"/>
                </a:solidFill>
                <a:latin typeface="Calibri"/>
              </a:rPr>
              <a:t>Compute x + 1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ff"/>
                </a:solidFill>
                <a:latin typeface="Calibri"/>
              </a:rPr>
              <a:t>Write to x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Box 10"/>
          <p:cNvSpPr/>
          <p:nvPr/>
        </p:nvSpPr>
        <p:spPr>
          <a:xfrm>
            <a:off x="6309000" y="4327560"/>
            <a:ext cx="2053080" cy="17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ff"/>
                </a:solidFill>
                <a:latin typeface="Calibri"/>
              </a:rPr>
              <a:t>Read x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ff"/>
                </a:solidFill>
                <a:latin typeface="Calibri"/>
              </a:rPr>
              <a:t>Compute x + 1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ff"/>
                </a:solidFill>
                <a:latin typeface="Calibri"/>
              </a:rPr>
              <a:t>Write to x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0" name="Straight Arrow Connector 12"/>
          <p:cNvCxnSpPr/>
          <p:nvPr/>
        </p:nvCxnSpPr>
        <p:spPr>
          <a:xfrm flipH="1">
            <a:off x="769680" y="4673160"/>
            <a:ext cx="2160" cy="152172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341" name="TextBox 13"/>
          <p:cNvSpPr/>
          <p:nvPr/>
        </p:nvSpPr>
        <p:spPr>
          <a:xfrm>
            <a:off x="4680" y="5226120"/>
            <a:ext cx="72720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Calibri"/>
              </a:rPr>
              <a:t>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12"/>
          <p:cNvSpPr/>
          <p:nvPr/>
        </p:nvSpPr>
        <p:spPr>
          <a:xfrm>
            <a:off x="3657600" y="6124680"/>
            <a:ext cx="4267080" cy="6174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Box 13"/>
          <p:cNvSpPr/>
          <p:nvPr/>
        </p:nvSpPr>
        <p:spPr>
          <a:xfrm>
            <a:off x="3657600" y="6095880"/>
            <a:ext cx="419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hread 1 and 2 instructions may occur in any order: Race condition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Picture 4" descr=""/>
          <p:cNvPicPr/>
          <p:nvPr/>
        </p:nvPicPr>
        <p:blipFill>
          <a:blip r:embed="rId1"/>
          <a:stretch/>
        </p:blipFill>
        <p:spPr>
          <a:xfrm>
            <a:off x="2209680" y="1171440"/>
            <a:ext cx="5127840" cy="5305680"/>
          </a:xfrm>
          <a:prstGeom prst="rect">
            <a:avLst/>
          </a:prstGeom>
          <a:ln w="0">
            <a:noFill/>
          </a:ln>
        </p:spPr>
      </p:pic>
      <p:sp>
        <p:nvSpPr>
          <p:cNvPr id="345" name="Rectangle 5"/>
          <p:cNvSpPr/>
          <p:nvPr/>
        </p:nvSpPr>
        <p:spPr>
          <a:xfrm>
            <a:off x="573480" y="304920"/>
            <a:ext cx="82350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flict in accessing shared variab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Box 6"/>
          <p:cNvSpPr/>
          <p:nvPr/>
        </p:nvSpPr>
        <p:spPr>
          <a:xfrm>
            <a:off x="2438280" y="5943600"/>
            <a:ext cx="182880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Thread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Box 7"/>
          <p:cNvSpPr/>
          <p:nvPr/>
        </p:nvSpPr>
        <p:spPr>
          <a:xfrm>
            <a:off x="5334120" y="5943600"/>
            <a:ext cx="182880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Thread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TextBox 2"/>
          <p:cNvSpPr/>
          <p:nvPr/>
        </p:nvSpPr>
        <p:spPr>
          <a:xfrm>
            <a:off x="1547640" y="457200"/>
            <a:ext cx="5378400" cy="69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One possible interleav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Box 4"/>
          <p:cNvSpPr/>
          <p:nvPr/>
        </p:nvSpPr>
        <p:spPr>
          <a:xfrm>
            <a:off x="1335960" y="1978200"/>
            <a:ext cx="3284280" cy="23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ff"/>
                </a:solidFill>
                <a:latin typeface="Calibri"/>
              </a:rPr>
              <a:t>Thread 1 Read x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ff"/>
                </a:solidFill>
                <a:latin typeface="Calibri"/>
              </a:rPr>
              <a:t>Thread 1 Compute x + 1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ff"/>
                </a:solidFill>
                <a:latin typeface="Calibri"/>
              </a:rPr>
              <a:t>Thread 1 Write to x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0" name="Straight Arrow Connector 5"/>
          <p:cNvCxnSpPr/>
          <p:nvPr/>
        </p:nvCxnSpPr>
        <p:spPr>
          <a:xfrm flipH="1">
            <a:off x="1253880" y="1978200"/>
            <a:ext cx="2160" cy="414720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351" name="TextBox 6"/>
          <p:cNvSpPr/>
          <p:nvPr/>
        </p:nvSpPr>
        <p:spPr>
          <a:xfrm>
            <a:off x="430200" y="3567240"/>
            <a:ext cx="72720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Calibri"/>
              </a:rPr>
              <a:t>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Box 9"/>
          <p:cNvSpPr/>
          <p:nvPr/>
        </p:nvSpPr>
        <p:spPr>
          <a:xfrm>
            <a:off x="5301360" y="2184480"/>
            <a:ext cx="3284280" cy="31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lnSpc>
                <a:spcPts val="798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ff"/>
                </a:solidFill>
                <a:latin typeface="Calibri"/>
              </a:rPr>
              <a:t>Thread 2 Read x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798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ff"/>
                </a:solidFill>
                <a:latin typeface="Calibri"/>
              </a:rPr>
              <a:t>Thread 2 Compute x + 1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798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ff"/>
                </a:solidFill>
                <a:latin typeface="Calibri"/>
              </a:rPr>
              <a:t>Thread 2 Write to x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Box 10"/>
          <p:cNvSpPr/>
          <p:nvPr/>
        </p:nvSpPr>
        <p:spPr>
          <a:xfrm>
            <a:off x="1392120" y="5364000"/>
            <a:ext cx="649764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Suppose initial value of x is 10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What is the final value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71200" y="1166760"/>
            <a:ext cx="8163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66"/>
                </a:solidFill>
                <a:latin typeface="Calibri"/>
              </a:rPr>
              <a:t>CUDA Graphics Interoperability</a:t>
            </a:r>
            <a:endParaRPr b="1" lang="en-US" sz="32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Example: Image processing applications may do complex calculations (per pixel) then display im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Rectangle 2052"/>
          <p:cNvSpPr/>
          <p:nvPr/>
        </p:nvSpPr>
        <p:spPr>
          <a:xfrm>
            <a:off x="1440" y="2246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2" descr=""/>
          <p:cNvPicPr/>
          <p:nvPr/>
        </p:nvPicPr>
        <p:blipFill>
          <a:blip r:embed="rId1"/>
          <a:stretch/>
        </p:blipFill>
        <p:spPr>
          <a:xfrm>
            <a:off x="839880" y="3027240"/>
            <a:ext cx="3047760" cy="30481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3" descr=""/>
          <p:cNvPicPr/>
          <p:nvPr/>
        </p:nvPicPr>
        <p:blipFill>
          <a:blip r:embed="rId2"/>
          <a:stretch/>
        </p:blipFill>
        <p:spPr>
          <a:xfrm>
            <a:off x="4419720" y="3025800"/>
            <a:ext cx="3047760" cy="304812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11"/>
          <p:cNvSpPr/>
          <p:nvPr/>
        </p:nvSpPr>
        <p:spPr>
          <a:xfrm>
            <a:off x="1622520" y="6211800"/>
            <a:ext cx="1784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1"/>
          <p:cNvSpPr/>
          <p:nvPr/>
        </p:nvSpPr>
        <p:spPr>
          <a:xfrm>
            <a:off x="5486400" y="6215040"/>
            <a:ext cx="148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Sobel Fil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TextBox 2"/>
          <p:cNvSpPr/>
          <p:nvPr/>
        </p:nvSpPr>
        <p:spPr>
          <a:xfrm flipH="1">
            <a:off x="562680" y="1494000"/>
            <a:ext cx="8293320" cy="35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Need to ensure each thread is allowed exclusive access to shared variable to complete its operation </a:t>
            </a:r>
            <a:r>
              <a:rPr b="0" i="1" lang="en-US" sz="2500" spc="-1" strike="noStrike">
                <a:solidFill>
                  <a:srgbClr val="000000"/>
                </a:solidFill>
                <a:latin typeface="Calibri"/>
              </a:rPr>
              <a:t>(if a write operation is involved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Calibri"/>
              </a:rPr>
              <a:t>Atomic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functions perform a read-modify-write operation on a word in shared memory without interference by other thread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Access to the memory location with specified address is blocked until atomic completed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Box 3"/>
          <p:cNvSpPr/>
          <p:nvPr/>
        </p:nvSpPr>
        <p:spPr>
          <a:xfrm>
            <a:off x="2370240" y="457200"/>
            <a:ext cx="3747600" cy="69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tomic Fun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TextBox 2"/>
          <p:cNvSpPr/>
          <p:nvPr/>
        </p:nvSpPr>
        <p:spPr>
          <a:xfrm>
            <a:off x="1468800" y="457200"/>
            <a:ext cx="5360040" cy="69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UDA Atomic Oper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Box 3"/>
          <p:cNvSpPr/>
          <p:nvPr/>
        </p:nvSpPr>
        <p:spPr>
          <a:xfrm>
            <a:off x="770040" y="1631880"/>
            <a:ext cx="8086680" cy="51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Performs read-modify-write atomic operation on one word residing in </a:t>
            </a:r>
            <a:r>
              <a:rPr b="0" lang="en-US" sz="2500" spc="-1" strike="noStrike">
                <a:solidFill>
                  <a:srgbClr val="ff0000"/>
                </a:solidFill>
                <a:latin typeface="Calibri"/>
              </a:rPr>
              <a:t>global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lang="en-US" sz="2500" spc="-1" strike="noStrike">
                <a:solidFill>
                  <a:srgbClr val="ff0000"/>
                </a:solidFill>
                <a:latin typeface="Calibri"/>
              </a:rPr>
              <a:t>shared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GPU memory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-  Guaranteed no interference from other threa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-  No guarantee on or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Defined operations on signed/unsigned integers, add, sub, min, max, and, or, xor, increment, decrement, exchange, compare and swap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Requires GPU with compute capability 1.1+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&gt; G8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Shared memory operations and 64-bit words require higher capabilit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TextBox 2"/>
          <p:cNvSpPr/>
          <p:nvPr/>
        </p:nvSpPr>
        <p:spPr>
          <a:xfrm>
            <a:off x="1541160" y="457200"/>
            <a:ext cx="5221440" cy="69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ample CUDA atomics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3"/>
          <p:cNvSpPr/>
          <p:nvPr/>
        </p:nvSpPr>
        <p:spPr>
          <a:xfrm>
            <a:off x="631800" y="1908000"/>
            <a:ext cx="8512200" cy="54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ff"/>
                </a:solidFill>
                <a:latin typeface="Calibri"/>
              </a:rPr>
              <a:t>int atomicAdd(int* address, int val);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Adds </a:t>
            </a:r>
            <a:r>
              <a:rPr b="0" lang="en-US" sz="2500" spc="-1" strike="noStrike">
                <a:solidFill>
                  <a:srgbClr val="0000ff"/>
                </a:solidFill>
                <a:latin typeface="Calibri"/>
              </a:rPr>
              <a:t>val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to memory location given by </a:t>
            </a:r>
            <a:r>
              <a:rPr b="0" lang="en-US" sz="2500" spc="-1" strike="noStrike">
                <a:solidFill>
                  <a:srgbClr val="0000ff"/>
                </a:solidFill>
                <a:latin typeface="Calibri"/>
              </a:rPr>
              <a:t>address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, atomically (atomic read-modify-write operation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ff"/>
                </a:solidFill>
                <a:latin typeface="Calibri"/>
              </a:rPr>
              <a:t>int atomicSub(int* address, int val);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Subtracts </a:t>
            </a:r>
            <a:r>
              <a:rPr b="0" lang="en-US" sz="2500" spc="-1" strike="noStrike">
                <a:solidFill>
                  <a:srgbClr val="0000ff"/>
                </a:solidFill>
                <a:latin typeface="Calibri"/>
              </a:rPr>
              <a:t>val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from memory location given by </a:t>
            </a:r>
            <a:r>
              <a:rPr b="0" lang="en-US" sz="2500" spc="-1" strike="noStrike">
                <a:solidFill>
                  <a:srgbClr val="0000ff"/>
                </a:solidFill>
                <a:latin typeface="Calibri"/>
              </a:rPr>
              <a:t>address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, atomically (atomic read-modify-write operation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Functions returns original value in addres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Box 4"/>
          <p:cNvSpPr/>
          <p:nvPr/>
        </p:nvSpPr>
        <p:spPr>
          <a:xfrm>
            <a:off x="857880" y="5562720"/>
            <a:ext cx="530388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* See CUDA C Programming Guide for full li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Calibri"/>
              </a:rPr>
              <a:t>Atomic Functions</a:t>
            </a:r>
            <a:endParaRPr b="1" lang="en-US" sz="39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362" name="Rectangle 3"/>
          <p:cNvSpPr/>
          <p:nvPr/>
        </p:nvSpPr>
        <p:spPr>
          <a:xfrm>
            <a:off x="914400" y="3505320"/>
            <a:ext cx="7620120" cy="23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7680" indent="-403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60093"/>
                </a:solidFill>
                <a:latin typeface="Courier New"/>
              </a:rPr>
              <a:t>__device__ </a:t>
            </a:r>
            <a:r>
              <a:rPr b="1" lang="en-US" sz="2400" spc="-1" strike="noStrike">
                <a:solidFill>
                  <a:srgbClr val="b3b3b3"/>
                </a:solidFill>
                <a:latin typeface="Courier New"/>
              </a:rPr>
              <a:t>unsigned int </a:t>
            </a:r>
            <a:r>
              <a:rPr b="1" lang="en-US" sz="2400" spc="-1" strike="noStrike">
                <a:solidFill>
                  <a:srgbClr val="330066"/>
                </a:solidFill>
                <a:latin typeface="Courier New"/>
              </a:rPr>
              <a:t>count = 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7680" indent="-403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//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7680" indent="-403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// atomic ++cou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7680" indent="-403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60093"/>
                </a:solidFill>
                <a:latin typeface="Courier New"/>
              </a:rPr>
              <a:t>atomicInc</a:t>
            </a:r>
            <a:r>
              <a:rPr b="1" lang="en-US" sz="2400" spc="-1" strike="noStrike">
                <a:solidFill>
                  <a:srgbClr val="330066"/>
                </a:solidFill>
                <a:latin typeface="Courier New"/>
              </a:rPr>
              <a:t>(&amp;count, 1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Content Placeholder 2"/>
          <p:cNvSpPr/>
          <p:nvPr/>
        </p:nvSpPr>
        <p:spPr>
          <a:xfrm>
            <a:off x="457200" y="198108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the value of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coun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f 8 threads execute </a:t>
            </a:r>
            <a:r>
              <a:rPr b="0" lang="en-US" sz="3200" spc="-1" strike="noStrike">
                <a:solidFill>
                  <a:srgbClr val="d60093"/>
                </a:solidFill>
                <a:latin typeface="Courier New"/>
              </a:rPr>
              <a:t>atomicInc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l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Calibri"/>
              </a:rPr>
              <a:t>Atomic Functions</a:t>
            </a:r>
            <a:endParaRPr b="1" lang="en-US" sz="39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365" name="Rectangle 3"/>
          <p:cNvSpPr/>
          <p:nvPr/>
        </p:nvSpPr>
        <p:spPr>
          <a:xfrm>
            <a:off x="914400" y="3505320"/>
            <a:ext cx="7620120" cy="23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7680" indent="-403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60093"/>
                </a:solidFill>
                <a:latin typeface="Courier New"/>
              </a:rPr>
              <a:t>__device__ </a:t>
            </a:r>
            <a:r>
              <a:rPr b="1" lang="en-US" sz="2400" spc="-1" strike="noStrike">
                <a:solidFill>
                  <a:srgbClr val="b3b3b3"/>
                </a:solidFill>
                <a:latin typeface="Courier New"/>
              </a:rPr>
              <a:t>unsigned int </a:t>
            </a:r>
            <a:r>
              <a:rPr b="1" lang="en-US" sz="2400" spc="-1" strike="noStrike">
                <a:solidFill>
                  <a:srgbClr val="330066"/>
                </a:solidFill>
                <a:latin typeface="Courier New"/>
              </a:rPr>
              <a:t>count = 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7680" indent="-403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//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7680" indent="-403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// atomic ++cou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7680" indent="-403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60093"/>
                </a:solidFill>
                <a:latin typeface="Courier New"/>
              </a:rPr>
              <a:t>atomicInc</a:t>
            </a:r>
            <a:r>
              <a:rPr b="1" lang="en-US" sz="2400" spc="-1" strike="noStrike">
                <a:solidFill>
                  <a:srgbClr val="330066"/>
                </a:solidFill>
                <a:latin typeface="Courier New"/>
              </a:rPr>
              <a:t>(&amp;count, 1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Content Placeholder 2"/>
          <p:cNvSpPr/>
          <p:nvPr/>
        </p:nvSpPr>
        <p:spPr>
          <a:xfrm>
            <a:off x="457200" y="198108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the value of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coun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f 8 threads execute </a:t>
            </a:r>
            <a:r>
              <a:rPr b="0" lang="en-US" sz="3200" spc="-1" strike="noStrike">
                <a:solidFill>
                  <a:srgbClr val="d60093"/>
                </a:solidFill>
                <a:latin typeface="Courier New"/>
              </a:rPr>
              <a:t>atomicInc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l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5"/>
          <p:cNvSpPr/>
          <p:nvPr/>
        </p:nvSpPr>
        <p:spPr>
          <a:xfrm>
            <a:off x="3505320" y="5705640"/>
            <a:ext cx="3886200" cy="4665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Box 6"/>
          <p:cNvSpPr/>
          <p:nvPr/>
        </p:nvSpPr>
        <p:spPr>
          <a:xfrm>
            <a:off x="3505320" y="570564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s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way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 – no race condi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2"/>
          <p:cNvSpPr/>
          <p:nvPr/>
        </p:nvSpPr>
        <p:spPr>
          <a:xfrm>
            <a:off x="533520" y="1590840"/>
            <a:ext cx="7810560" cy="498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#include &lt;stdio.h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#include &lt;cuda.h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#include &lt;stdlib.h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__device__ int gpu_Count=0;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//global variable in de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__global__ void gpu_Counter(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atomicAdd(&amp;gpu_Count,1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int main(void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int cpu_Count;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gpu_Counter&lt;&lt;&lt;B,T&gt;&gt;&gt;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udaMemcpyFromSymbol(&amp;cpu_Count, "gpu_Count"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sizeof(int), 0, cudaMemcpyDeviceToHost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printf("Count = %d\n",cpu_Count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return 0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Box 3"/>
          <p:cNvSpPr/>
          <p:nvPr/>
        </p:nvSpPr>
        <p:spPr>
          <a:xfrm>
            <a:off x="3505320" y="657360"/>
            <a:ext cx="311940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Example co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1" name="Straight Arrow Connector 5"/>
          <p:cNvCxnSpPr/>
          <p:nvPr/>
        </p:nvCxnSpPr>
        <p:spPr>
          <a:xfrm flipH="1">
            <a:off x="4876560" y="4343400"/>
            <a:ext cx="915120" cy="72936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372" name="TextBox 7"/>
          <p:cNvSpPr/>
          <p:nvPr/>
        </p:nvSpPr>
        <p:spPr>
          <a:xfrm>
            <a:off x="5376960" y="3325680"/>
            <a:ext cx="3386160" cy="99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Synchronous, so cudaThreadSynchronize() not need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TextBox 2"/>
          <p:cNvSpPr/>
          <p:nvPr/>
        </p:nvSpPr>
        <p:spPr>
          <a:xfrm>
            <a:off x="1461960" y="249120"/>
            <a:ext cx="5597640" cy="10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Another Example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Computing Histogram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3"/>
          <p:cNvSpPr/>
          <p:nvPr/>
        </p:nvSpPr>
        <p:spPr>
          <a:xfrm>
            <a:off x="493560" y="1424160"/>
            <a:ext cx="93315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alibri"/>
              </a:rPr>
              <a:t>// globally accessible on g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4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alibri"/>
              </a:rPr>
              <a:t>__device__ int gpu_hist[10];</a:t>
            </a:r>
            <a:r>
              <a:rPr b="1" lang="en-US" sz="16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Calibri"/>
              </a:rPr>
              <a:t>// histogram computed on g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4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4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ff"/>
                </a:solidFill>
                <a:latin typeface="Calibri"/>
              </a:rPr>
              <a:t>__global__ void gpu_histogram(int *a, int N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4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Calibri"/>
              </a:rPr>
              <a:t>int *ptr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4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Calibri"/>
              </a:rPr>
              <a:t>int tid = blockIdx.x *  blockDim.x + threadIdx.x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4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Calibri"/>
              </a:rPr>
              <a:t>int numberThreads = blockDim.x * gridDim.x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4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4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4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Calibri"/>
              </a:rPr>
              <a:t>while (tid &lt; N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4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Calibri"/>
              </a:rPr>
              <a:t>ptr = &amp;gpu_hist[a[tid]]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4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Calibri"/>
              </a:rPr>
              <a:t>atomicAdd(ptr,1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4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Calibri"/>
              </a:rPr>
              <a:t>tid += numberThreads; </a:t>
            </a:r>
            <a:r>
              <a:rPr b="1" lang="en-US" sz="16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Calibri"/>
              </a:rPr>
              <a:t>// if no of threads less than N, threads reu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4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Calibri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4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alibri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2"/>
          <p:cNvSpPr/>
          <p:nvPr/>
        </p:nvSpPr>
        <p:spPr>
          <a:xfrm>
            <a:off x="380880" y="762120"/>
            <a:ext cx="8224920" cy="446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03040"/>
                <a:tab algn="l" pos="419040"/>
                <a:tab algn="l" pos="623880"/>
                <a:tab algn="l" pos="82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alibri"/>
              </a:rPr>
              <a:t>int main(int argc, char *argv[]) 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3040"/>
                <a:tab algn="l" pos="419040"/>
                <a:tab algn="l" pos="623880"/>
                <a:tab algn="l" pos="82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Calibri"/>
              </a:rPr>
              <a:t>int T = 10, B = 10;            </a:t>
            </a:r>
            <a:r>
              <a:rPr b="1" lang="en-US" sz="16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Calibri"/>
              </a:rPr>
              <a:t>// threads per block and blocks per gr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3040"/>
                <a:tab algn="l" pos="419040"/>
                <a:tab algn="l" pos="623880"/>
                <a:tab algn="l" pos="82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Calibri"/>
              </a:rPr>
              <a:t>int N = 10;</a:t>
            </a:r>
            <a:r>
              <a:rPr b="1" lang="en-US" sz="16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Calibri"/>
              </a:rPr>
              <a:t>// Number of numb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3040"/>
                <a:tab algn="l" pos="419040"/>
                <a:tab algn="l" pos="623880"/>
                <a:tab algn="l" pos="82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Calibri"/>
              </a:rPr>
              <a:t>int *a;</a:t>
            </a:r>
            <a:r>
              <a:rPr b="1" lang="en-US" sz="16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Calibri"/>
              </a:rPr>
              <a:t>// ptr to array holding numbers on ho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3040"/>
                <a:tab algn="l" pos="419040"/>
                <a:tab algn="l" pos="623880"/>
                <a:tab algn="l" pos="82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Calibri"/>
              </a:rPr>
              <a:t>int *dev_a;</a:t>
            </a:r>
            <a:r>
              <a:rPr b="1" lang="en-US" sz="16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Calibri"/>
              </a:rPr>
              <a:t>//  ptr to array holding numbers on dev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3040"/>
                <a:tab algn="l" pos="419040"/>
                <a:tab algn="l" pos="623880"/>
                <a:tab algn="l" pos="82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Calibri"/>
              </a:rPr>
              <a:t>int hist[10];</a:t>
            </a:r>
            <a:r>
              <a:rPr b="1" lang="en-US" sz="16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Calibri"/>
              </a:rPr>
              <a:t>// final results from g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3040"/>
                <a:tab algn="l" pos="419040"/>
                <a:tab algn="l" pos="623880"/>
                <a:tab algn="l" pos="82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alibri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3040"/>
                <a:tab algn="l" pos="419040"/>
                <a:tab algn="l" pos="623880"/>
                <a:tab algn="l" pos="82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Calibri"/>
              </a:rPr>
              <a:t>printf("Enter number of numbers, currently %d\n",N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3040"/>
                <a:tab algn="l" pos="419040"/>
                <a:tab algn="l" pos="623880"/>
                <a:tab algn="l" pos="82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Calibri"/>
              </a:rPr>
              <a:t>scanf("%d",&amp;N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3040"/>
                <a:tab algn="l" pos="419040"/>
                <a:tab algn="l" pos="623880"/>
                <a:tab algn="l" pos="82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Calibri"/>
              </a:rPr>
              <a:t>input_thread_values(&amp;B,&amp;T);</a:t>
            </a:r>
            <a:r>
              <a:rPr b="1" lang="en-US" sz="16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Calibri"/>
              </a:rPr>
              <a:t>// keyboard input for no of threads and bloc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3040"/>
                <a:tab algn="l" pos="419040"/>
                <a:tab algn="l" pos="623880"/>
                <a:tab algn="l" pos="82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Calibri"/>
              </a:rPr>
              <a:t>if (N &gt; B * T) printf("Note; number of threads less than number of numbers\n"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3040"/>
                <a:tab algn="l" pos="419040"/>
                <a:tab algn="l" pos="623880"/>
                <a:tab algn="l" pos="82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3040"/>
                <a:tab algn="l" pos="419040"/>
                <a:tab algn="l" pos="623880"/>
                <a:tab algn="l" pos="82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Calibri"/>
              </a:rPr>
              <a:t>int size = N * sizeof(int);</a:t>
            </a:r>
            <a:r>
              <a:rPr b="1" lang="en-US" sz="16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Calibri"/>
              </a:rPr>
              <a:t>// number of bytes in total in list of numb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3040"/>
                <a:tab algn="l" pos="419040"/>
                <a:tab algn="l" pos="623880"/>
                <a:tab algn="l" pos="82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Calibri"/>
              </a:rPr>
              <a:t>a = (int*) malloc(size);</a:t>
            </a:r>
            <a:r>
              <a:rPr b="1" lang="en-US" sz="1600" spc="-1" strike="noStrike">
                <a:solidFill>
                  <a:srgbClr val="0000ff"/>
                </a:solidFill>
                <a:latin typeface="Calibri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3040"/>
                <a:tab algn="l" pos="419040"/>
                <a:tab algn="l" pos="623880"/>
                <a:tab algn="l" pos="82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3040"/>
                <a:tab algn="l" pos="419040"/>
                <a:tab algn="l" pos="623880"/>
                <a:tab algn="l" pos="82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Calibri"/>
              </a:rPr>
              <a:t>srand(1);</a:t>
            </a:r>
            <a:r>
              <a:rPr b="1" lang="en-US" sz="16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Calibri"/>
              </a:rPr>
              <a:t>// set rand() seed to 1 for repeatabil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3040"/>
                <a:tab algn="l" pos="419040"/>
                <a:tab algn="l" pos="623880"/>
                <a:tab algn="l" pos="82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Calibri"/>
              </a:rPr>
              <a:t>for(int i=0;i&lt;N;i++)    </a:t>
            </a:r>
            <a:r>
              <a:rPr b="1" lang="en-US" sz="16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Calibri"/>
              </a:rPr>
              <a:t>// load arrays with digi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3040"/>
                <a:tab algn="l" pos="419040"/>
                <a:tab algn="l" pos="623880"/>
                <a:tab algn="l" pos="82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Calibri"/>
              </a:rPr>
              <a:t>a[i] = rand() % 1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2"/>
          <p:cNvSpPr/>
          <p:nvPr/>
        </p:nvSpPr>
        <p:spPr>
          <a:xfrm>
            <a:off x="533520" y="1371600"/>
            <a:ext cx="8224560" cy="4220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03040"/>
                <a:tab algn="l" pos="419040"/>
                <a:tab algn="l" pos="623880"/>
                <a:tab algn="l" pos="82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Calibri"/>
              </a:rPr>
              <a:t>cudaMalloc((void**)&amp;dev_a, size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3040"/>
                <a:tab algn="l" pos="419040"/>
                <a:tab algn="l" pos="623880"/>
                <a:tab algn="l" pos="82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Calibri"/>
              </a:rPr>
              <a:t>cudaMemcpy(dev_a, a , size ,cudaMemcpyHostToDevice); // copy numbers to dev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3040"/>
                <a:tab algn="l" pos="419040"/>
                <a:tab algn="l" pos="623880"/>
                <a:tab algn="l" pos="82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3040"/>
                <a:tab algn="l" pos="419040"/>
                <a:tab algn="l" pos="623880"/>
                <a:tab algn="l" pos="82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Calibri"/>
              </a:rPr>
              <a:t>gpu_histogram&lt;&lt;&lt;B,T&gt;&gt;&gt;(dev_a,N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3040"/>
                <a:tab algn="l" pos="419040"/>
                <a:tab algn="l" pos="623880"/>
                <a:tab algn="l" pos="82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3040"/>
                <a:tab algn="l" pos="419040"/>
                <a:tab algn="l" pos="623880"/>
                <a:tab algn="l" pos="82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Calibri"/>
              </a:rPr>
              <a:t>cudaThreadSynchronize();</a:t>
            </a:r>
            <a:r>
              <a:rPr b="1" lang="en-US" sz="16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Calibri"/>
              </a:rPr>
              <a:t>// wait for all threads to complete, needed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3040"/>
                <a:tab algn="l" pos="419040"/>
                <a:tab algn="l" pos="623880"/>
                <a:tab algn="l" pos="82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3040"/>
                <a:tab algn="l" pos="419040"/>
                <a:tab algn="l" pos="623880"/>
                <a:tab algn="l" pos="82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Calibri"/>
              </a:rPr>
              <a:t>cudaMemcpyFromSymbol(&amp;hist, "gpu_hist", sizeof(hist), 0, cudaMemcpyDeviceToHost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3040"/>
                <a:tab algn="l" pos="419040"/>
                <a:tab algn="l" pos="623880"/>
                <a:tab algn="l" pos="82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3040"/>
                <a:tab algn="l" pos="419040"/>
                <a:tab algn="l" pos="623880"/>
                <a:tab algn="l" pos="82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Calibri"/>
              </a:rPr>
              <a:t>printf("Histogram, as computed on GPU\n"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3040"/>
                <a:tab algn="l" pos="419040"/>
                <a:tab algn="l" pos="623880"/>
                <a:tab algn="l" pos="82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Calibri"/>
              </a:rPr>
              <a:t>for(int i = 0;i &lt; 10;i++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3040"/>
                <a:tab algn="l" pos="419040"/>
                <a:tab algn="l" pos="623880"/>
                <a:tab algn="l" pos="82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Calibri"/>
              </a:rPr>
              <a:t>printf("Number of %d's = %d\n",i,hist[i]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3040"/>
                <a:tab algn="l" pos="419040"/>
                <a:tab algn="l" pos="623880"/>
                <a:tab algn="l" pos="82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3040"/>
                <a:tab algn="l" pos="419040"/>
                <a:tab algn="l" pos="623880"/>
                <a:tab algn="l" pos="82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Calibri"/>
              </a:rPr>
              <a:t>free(a);</a:t>
            </a:r>
            <a:r>
              <a:rPr b="1" lang="en-US" sz="16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Calibri"/>
              </a:rPr>
              <a:t>// clean u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3040"/>
                <a:tab algn="l" pos="419040"/>
                <a:tab algn="l" pos="623880"/>
                <a:tab algn="l" pos="82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Calibri"/>
              </a:rPr>
              <a:t>cudaFree(dev_a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3040"/>
                <a:tab algn="l" pos="419040"/>
                <a:tab algn="l" pos="623880"/>
                <a:tab algn="l" pos="82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Calibri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3040"/>
                <a:tab algn="l" pos="419040"/>
                <a:tab algn="l" pos="623880"/>
                <a:tab algn="l" pos="82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alibri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2"/>
          <p:cNvSpPr/>
          <p:nvPr/>
        </p:nvSpPr>
        <p:spPr>
          <a:xfrm>
            <a:off x="493560" y="525600"/>
            <a:ext cx="8847360" cy="577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Other atomic oper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7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Calibri"/>
              </a:rPr>
              <a:t>int atomicSub(int* address, int val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7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Calibri"/>
              </a:rPr>
              <a:t>int atomicExch(int* address, int val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7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Calibri"/>
              </a:rPr>
              <a:t>int atomicMin(int* address, int val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7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Calibri"/>
              </a:rPr>
              <a:t>int atomicMax(int* address, int val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7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Calibri"/>
              </a:rPr>
              <a:t>unsigned int atomicInc(unsigned int* address, unsigned int val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7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Calibri"/>
              </a:rPr>
              <a:t>unsigned int atomicDec(unsigned int* address, unsigned int val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7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Calibri"/>
              </a:rPr>
              <a:t>int atomicCAS(int* address, int compare, int val);  //compare and swa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7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Calibri"/>
              </a:rPr>
              <a:t>int atomicAnd(int* address, int val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7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Calibri"/>
              </a:rPr>
              <a:t>int atomicOr(int* address, int val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7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Calibri"/>
              </a:rPr>
              <a:t>int atomicXor(int* address, int val);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Box 4"/>
          <p:cNvSpPr/>
          <p:nvPr/>
        </p:nvSpPr>
        <p:spPr>
          <a:xfrm>
            <a:off x="649080" y="6332400"/>
            <a:ext cx="720720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urce: NVIDIA CUDA C Programming Guide, version 3.2, 11/9/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Calibri"/>
                <a:ea typeface="Calibri"/>
              </a:rPr>
              <a:t>CUDA graphics Interoperability</a:t>
            </a:r>
            <a:endParaRPr b="1" lang="en-US" sz="36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Yes!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Combine CUDA with popular graphics libraries OpenGL and Direct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2280" indent="-34776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CUDA: Do calculation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2280" indent="-34776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OpenGL, DirectX: Display resulting imag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Approach: Share common buff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Rectangle 3"/>
          <p:cNvSpPr/>
          <p:nvPr/>
        </p:nvSpPr>
        <p:spPr>
          <a:xfrm>
            <a:off x="2971800" y="5743440"/>
            <a:ext cx="1523880" cy="733680"/>
          </a:xfrm>
          <a:prstGeom prst="rect">
            <a:avLst/>
          </a:prstGeom>
          <a:solidFill>
            <a:srgbClr val="cccc00"/>
          </a:solidFill>
          <a:ln w="25560">
            <a:solidFill>
              <a:srgbClr val="95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Shar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Buf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4"/>
          <p:cNvSpPr/>
          <p:nvPr/>
        </p:nvSpPr>
        <p:spPr>
          <a:xfrm>
            <a:off x="76320" y="5029200"/>
            <a:ext cx="2514600" cy="5806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DA calculates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rites to shared buf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5"/>
          <p:cNvSpPr/>
          <p:nvPr/>
        </p:nvSpPr>
        <p:spPr>
          <a:xfrm>
            <a:off x="4724280" y="5029200"/>
            <a:ext cx="2590920" cy="5806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penGL, DirectX reads shared buffer, displays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Straight Arrow Connector 7"/>
          <p:cNvCxnSpPr>
            <a:endCxn id="171" idx="1"/>
          </p:cNvCxnSpPr>
          <p:nvPr/>
        </p:nvCxnSpPr>
        <p:spPr>
          <a:xfrm>
            <a:off x="1447560" y="5638680"/>
            <a:ext cx="1524600" cy="4723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75" name="Straight Arrow Connector 10"/>
          <p:cNvCxnSpPr/>
          <p:nvPr/>
        </p:nvCxnSpPr>
        <p:spPr>
          <a:xfrm flipV="1">
            <a:off x="4495680" y="5638320"/>
            <a:ext cx="1524960" cy="4579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176" name="Picture 3" descr=""/>
          <p:cNvPicPr/>
          <p:nvPr/>
        </p:nvPicPr>
        <p:blipFill>
          <a:blip r:embed="rId1"/>
          <a:stretch/>
        </p:blipFill>
        <p:spPr>
          <a:xfrm>
            <a:off x="7848720" y="4724280"/>
            <a:ext cx="1218960" cy="1219320"/>
          </a:xfrm>
          <a:prstGeom prst="rect">
            <a:avLst/>
          </a:prstGeom>
          <a:ln w="0">
            <a:noFill/>
          </a:ln>
        </p:spPr>
      </p:pic>
      <p:cxnSp>
        <p:nvCxnSpPr>
          <p:cNvPr id="177" name="Straight Arrow Connector 14"/>
          <p:cNvCxnSpPr/>
          <p:nvPr/>
        </p:nvCxnSpPr>
        <p:spPr>
          <a:xfrm>
            <a:off x="7315200" y="5333760"/>
            <a:ext cx="5342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4"/>
          <p:cNvSpPr/>
          <p:nvPr/>
        </p:nvSpPr>
        <p:spPr>
          <a:xfrm>
            <a:off x="493560" y="1838160"/>
            <a:ext cx="8469360" cy="39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A mechanism for ensuring that only one process (or in this context, thread) accesses a particular resource at a time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ff0000"/>
                </a:solidFill>
                <a:latin typeface="Calibri"/>
              </a:rPr>
              <a:t>critical section </a:t>
            </a:r>
            <a:r>
              <a:rPr b="0" i="1" lang="en-US" sz="25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a section of code for accessing resourc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Arrange that only one such critical section is executed at a time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This mechanism is known as </a:t>
            </a:r>
            <a:r>
              <a:rPr b="0" i="1" lang="en-US" sz="2500" spc="-1" strike="noStrike">
                <a:solidFill>
                  <a:srgbClr val="ff0000"/>
                </a:solidFill>
                <a:latin typeface="Calibri"/>
              </a:rPr>
              <a:t>mutual exclusion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Concept also appears in an operating system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Rectangle 3"/>
          <p:cNvSpPr/>
          <p:nvPr/>
        </p:nvSpPr>
        <p:spPr>
          <a:xfrm>
            <a:off x="2776320" y="457200"/>
            <a:ext cx="3420000" cy="69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ritical Se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4"/>
          <p:cNvSpPr/>
          <p:nvPr/>
        </p:nvSpPr>
        <p:spPr>
          <a:xfrm>
            <a:off x="493560" y="1479600"/>
            <a:ext cx="8458200" cy="542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Simplest mechanism for ensuring mutual exclusion of critical section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en-US" sz="2500" spc="-1" strike="noStrike">
                <a:solidFill>
                  <a:srgbClr val="ff0000"/>
                </a:solidFill>
                <a:latin typeface="Calibri"/>
              </a:rPr>
              <a:t>lock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: 1-bit variabl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- set to 1 to indicates a process in critical section (occupied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- set to 0 to indicates no process in critical section (vacant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Operates much like that of a door lock (bathroom?)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A process coming to “door” of a critical section and finding it open may enter critical section, locking the door behind it to prevent other processes from entering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Once process has finished the critical section, it unlocks the door and leav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3"/>
          <p:cNvSpPr/>
          <p:nvPr/>
        </p:nvSpPr>
        <p:spPr>
          <a:xfrm>
            <a:off x="3435120" y="663480"/>
            <a:ext cx="1290960" cy="69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Lock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Slide Number Placeholder 1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66164-D99C-4EC1-A544-AECA18DBFA6F}" type="slidenum">
              <a:rPr b="0" lang="en-US" sz="10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ctangle 4"/>
          <p:cNvSpPr/>
          <p:nvPr/>
        </p:nvSpPr>
        <p:spPr>
          <a:xfrm>
            <a:off x="304920" y="304920"/>
            <a:ext cx="74674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ontrol of critical sections through busy wai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Picture 5" descr=""/>
          <p:cNvPicPr/>
          <p:nvPr/>
        </p:nvPicPr>
        <p:blipFill>
          <a:blip r:embed="rId1"/>
          <a:stretch/>
        </p:blipFill>
        <p:spPr>
          <a:xfrm>
            <a:off x="163440" y="1676520"/>
            <a:ext cx="87361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TextBox 2"/>
          <p:cNvSpPr/>
          <p:nvPr/>
        </p:nvSpPr>
        <p:spPr>
          <a:xfrm>
            <a:off x="2032920" y="457200"/>
            <a:ext cx="4288680" cy="69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mplementing Lock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563400" y="1562040"/>
            <a:ext cx="8293320" cy="35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Checking lock and setting it if not set at the entrance to a critical section must be done indivisibly and atomicall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Usual way to achieve this is for the processor to have  special atomic machine instruction notably one of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Test and se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Fetch and add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Compare and Swap CAS (or compare and exchange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TextBox 2"/>
          <p:cNvSpPr/>
          <p:nvPr/>
        </p:nvSpPr>
        <p:spPr>
          <a:xfrm>
            <a:off x="1754280" y="457200"/>
            <a:ext cx="5076720" cy="69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ompare and Swap C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Box 4"/>
          <p:cNvSpPr/>
          <p:nvPr/>
        </p:nvSpPr>
        <p:spPr>
          <a:xfrm>
            <a:off x="380880" y="1828800"/>
            <a:ext cx="8293320" cy="54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lvl="1" marL="414360" indent="-414360">
              <a:lnSpc>
                <a:spcPct val="100000"/>
              </a:lnSpc>
              <a:tabLst>
                <a:tab algn="l" pos="0"/>
                <a:tab algn="l" pos="1457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CAS -- compares contents of a memory location to a given value and only if the same, modifies contents of the memory location to a specified value, i.e.: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414360" indent="-414360">
              <a:lnSpc>
                <a:spcPct val="100000"/>
              </a:lnSpc>
              <a:tabLst>
                <a:tab algn="l" pos="0"/>
                <a:tab algn="l" pos="1457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414360" indent="-414360">
              <a:lnSpc>
                <a:spcPct val="100000"/>
              </a:lnSpc>
              <a:tabLst>
                <a:tab algn="l" pos="0"/>
                <a:tab algn="l" pos="1457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500" spc="-1" strike="noStrike">
                <a:solidFill>
                  <a:srgbClr val="0000ff"/>
                </a:solidFill>
                <a:latin typeface="Calibri"/>
              </a:rPr>
              <a:t>if (x == compare_value ) x = new_val; (else x = x;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414360" indent="-414360">
              <a:lnSpc>
                <a:spcPct val="100000"/>
              </a:lnSpc>
              <a:tabLst>
                <a:tab algn="l" pos="0"/>
                <a:tab algn="l" pos="1457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414360" indent="-414360">
              <a:lnSpc>
                <a:spcPct val="100000"/>
              </a:lnSpc>
              <a:tabLst>
                <a:tab algn="l" pos="0"/>
                <a:tab algn="l" pos="1457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For a critical section lock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414360" indent="-414360">
              <a:lnSpc>
                <a:spcPct val="100000"/>
              </a:lnSpc>
              <a:tabLst>
                <a:tab algn="l" pos="0"/>
                <a:tab algn="l" pos="1457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en-US" sz="2500" spc="-1" strike="noStrike">
                <a:solidFill>
                  <a:srgbClr val="0000ff"/>
                </a:solidFill>
                <a:latin typeface="Calibri"/>
              </a:rPr>
              <a:t>x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= lock variabl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414360" indent="-414360">
              <a:lnSpc>
                <a:spcPct val="100000"/>
              </a:lnSpc>
              <a:tabLst>
                <a:tab algn="l" pos="0"/>
                <a:tab algn="l" pos="1457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en-US" sz="2500" spc="-1" strike="noStrike">
                <a:solidFill>
                  <a:srgbClr val="0000ff"/>
                </a:solidFill>
                <a:latin typeface="Calibri"/>
              </a:rPr>
              <a:t>compare_value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= 0 (FALSE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414360" indent="-414360">
              <a:lnSpc>
                <a:spcPct val="100000"/>
              </a:lnSpc>
              <a:tabLst>
                <a:tab algn="l" pos="0"/>
                <a:tab algn="l" pos="1457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en-US" sz="2500" spc="-1" strike="noStrike">
                <a:solidFill>
                  <a:srgbClr val="0000ff"/>
                </a:solidFill>
                <a:latin typeface="Calibri"/>
              </a:rPr>
              <a:t>new_value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= 1 (TRUE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414360" indent="-414360">
              <a:lnSpc>
                <a:spcPct val="100000"/>
              </a:lnSpc>
              <a:tabLst>
                <a:tab algn="l" pos="0"/>
                <a:tab algn="l" pos="1457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414360" indent="-414360">
              <a:lnSpc>
                <a:spcPct val="100000"/>
              </a:lnSpc>
              <a:tabLst>
                <a:tab algn="l" pos="0"/>
                <a:tab algn="l" pos="1457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.e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if (x == 0) x = 1; (else x = x;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414360" indent="-414360">
              <a:lnSpc>
                <a:spcPct val="100000"/>
              </a:lnSpc>
              <a:tabLst>
                <a:tab algn="l" pos="0"/>
                <a:tab algn="l" pos="1457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457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2"/>
          <p:cNvSpPr/>
          <p:nvPr/>
        </p:nvSpPr>
        <p:spPr>
          <a:xfrm>
            <a:off x="503280" y="1355760"/>
            <a:ext cx="8769240" cy="447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alibri"/>
              </a:rPr>
              <a:t>__device__ int lock=0;  </a:t>
            </a:r>
            <a:r>
              <a:rPr b="1" lang="en-US" sz="18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Calibri"/>
              </a:rPr>
              <a:t>// unlock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alibri"/>
              </a:rPr>
              <a:t>__global__ void kernel(...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Calibri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Calibri"/>
              </a:rPr>
              <a:t>do {} while (atomicCAS(&amp;lock,0,1) ); </a:t>
            </a:r>
            <a:r>
              <a:rPr b="1" lang="en-US" sz="18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Calibri"/>
              </a:rPr>
              <a:t>// if lock = 0 set to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Calibri"/>
              </a:rPr>
              <a:t>// and ent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Calibri"/>
              </a:rPr>
              <a:t>...  </a:t>
            </a:r>
            <a:r>
              <a:rPr b="1" lang="en-US" sz="18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Calibri"/>
              </a:rPr>
              <a:t>// critical s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Calibri"/>
              </a:rPr>
              <a:t>lock = 0; </a:t>
            </a:r>
            <a:r>
              <a:rPr b="1" lang="en-US" sz="18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Calibri"/>
              </a:rPr>
              <a:t>// free 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alibri"/>
              </a:rPr>
              <a:t>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alibri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Rectangle 3"/>
          <p:cNvSpPr/>
          <p:nvPr/>
        </p:nvSpPr>
        <p:spPr>
          <a:xfrm>
            <a:off x="701640" y="317520"/>
            <a:ext cx="7391520" cy="130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oding Critical Sections with “Spin” Lock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4"/>
          <p:cNvSpPr/>
          <p:nvPr/>
        </p:nvSpPr>
        <p:spPr>
          <a:xfrm>
            <a:off x="457200" y="762120"/>
            <a:ext cx="8153280" cy="49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ritical Sections Serializing Co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High performance programs should have as few as possible critical sections as their use can serialize the code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Suppose, all processes happen to come to their critical section together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They will execute their critical sections one after the oth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(parallel becomes sequential execution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Performance becomes almost that of a single processo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Picture 5" descr=""/>
          <p:cNvPicPr/>
          <p:nvPr/>
        </p:nvPicPr>
        <p:blipFill>
          <a:blip r:embed="rId1"/>
          <a:stretch/>
        </p:blipFill>
        <p:spPr>
          <a:xfrm>
            <a:off x="990720" y="1143000"/>
            <a:ext cx="6629400" cy="5442120"/>
          </a:xfrm>
          <a:prstGeom prst="rect">
            <a:avLst/>
          </a:prstGeom>
          <a:ln w="0">
            <a:noFill/>
          </a:ln>
        </p:spPr>
      </p:pic>
      <p:sp>
        <p:nvSpPr>
          <p:cNvPr id="394" name="Rectangle 4"/>
          <p:cNvSpPr/>
          <p:nvPr/>
        </p:nvSpPr>
        <p:spPr>
          <a:xfrm>
            <a:off x="3213720" y="304920"/>
            <a:ext cx="25182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llustr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4"/>
          <p:cNvSpPr/>
          <p:nvPr/>
        </p:nvSpPr>
        <p:spPr>
          <a:xfrm>
            <a:off x="1371600" y="6248520"/>
            <a:ext cx="556272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TextBox 2"/>
          <p:cNvSpPr/>
          <p:nvPr/>
        </p:nvSpPr>
        <p:spPr>
          <a:xfrm>
            <a:off x="978120" y="317520"/>
            <a:ext cx="623808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Results from Histogram progr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7" name="Picture 4" descr=""/>
          <p:cNvPicPr/>
          <p:nvPr/>
        </p:nvPicPr>
        <p:blipFill>
          <a:blip r:embed="rId1"/>
          <a:stretch/>
        </p:blipFill>
        <p:spPr>
          <a:xfrm>
            <a:off x="838080" y="1066680"/>
            <a:ext cx="7077240" cy="51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Slide Number Placeholder 1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42FF4-397D-4303-8579-D4958F2DA7FB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9" name="Straight Arrow Connector 8"/>
          <p:cNvCxnSpPr/>
          <p:nvPr/>
        </p:nvCxnSpPr>
        <p:spPr>
          <a:xfrm flipH="1">
            <a:off x="6368760" y="5156640"/>
            <a:ext cx="552960" cy="27684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400" name="TextBox 9"/>
          <p:cNvSpPr/>
          <p:nvPr/>
        </p:nvSpPr>
        <p:spPr>
          <a:xfrm>
            <a:off x="6858000" y="3809880"/>
            <a:ext cx="2143080" cy="13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3.1 seems max because of accesses to shared histogram arr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Box 12"/>
          <p:cNvSpPr/>
          <p:nvPr/>
        </p:nvSpPr>
        <p:spPr>
          <a:xfrm>
            <a:off x="6665760" y="5572080"/>
            <a:ext cx="2478240" cy="99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More threads than numbers obviously will not hel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Box 13"/>
          <p:cNvSpPr/>
          <p:nvPr/>
        </p:nvSpPr>
        <p:spPr>
          <a:xfrm>
            <a:off x="6477120" y="1703520"/>
            <a:ext cx="2279520" cy="1180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Less threads than numbers causes threads to be reused in counting, so slo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3" name="Object 2"/>
          <p:cNvGraphicFramePr/>
          <p:nvPr/>
        </p:nvGraphicFramePr>
        <p:xfrm>
          <a:off x="0" y="457200"/>
          <a:ext cx="6186600" cy="640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57200"/>
                    <a:ext cx="6186600" cy="640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5" name="Rectangle 15"/>
          <p:cNvSpPr/>
          <p:nvPr/>
        </p:nvSpPr>
        <p:spPr>
          <a:xfrm>
            <a:off x="217440" y="5226120"/>
            <a:ext cx="6151680" cy="414360"/>
          </a:xfrm>
          <a:prstGeom prst="rect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8"/>
          <p:cNvSpPr/>
          <p:nvPr/>
        </p:nvSpPr>
        <p:spPr>
          <a:xfrm>
            <a:off x="3200400" y="142920"/>
            <a:ext cx="3886200" cy="4665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Box 9"/>
          <p:cNvSpPr/>
          <p:nvPr/>
        </p:nvSpPr>
        <p:spPr>
          <a:xfrm>
            <a:off x="3200400" y="14292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rying N, T and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Calibri"/>
                <a:ea typeface="Calibri"/>
              </a:rPr>
              <a:t>OpenGL and GLUT</a:t>
            </a:r>
            <a:endParaRPr b="1" lang="en-US" sz="36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53452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OpenGL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87480" indent="-293760">
              <a:spcBef>
                <a:spcPts val="49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Runs on many window systems (Apple, Windows, etc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987480" indent="-293760">
              <a:spcBef>
                <a:spcPts val="49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Concerned only with drawing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987480" indent="-293760">
              <a:spcBef>
                <a:spcPts val="49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No window management (create, resize, etc), very port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GLUT (GL Utility Toolkit)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87480" indent="-293760">
              <a:spcBef>
                <a:spcPts val="49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Minimal window manag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987480" indent="-293760">
              <a:spcBef>
                <a:spcPts val="49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Interfaces with different native windowing system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987480" indent="-293760">
              <a:spcBef>
                <a:spcPts val="49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Easy porting between windowing systems. Fast prototyp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0" name="Picture 4" descr=""/>
          <p:cNvPicPr/>
          <p:nvPr/>
        </p:nvPicPr>
        <p:blipFill>
          <a:blip r:embed="rId1"/>
          <a:stretch/>
        </p:blipFill>
        <p:spPr>
          <a:xfrm>
            <a:off x="3292560" y="4656240"/>
            <a:ext cx="2422440" cy="2201760"/>
          </a:xfrm>
          <a:prstGeom prst="rect">
            <a:avLst/>
          </a:prstGeom>
          <a:ln w="0">
            <a:noFill/>
          </a:ln>
        </p:spPr>
      </p:pic>
      <p:sp>
        <p:nvSpPr>
          <p:cNvPr id="181" name="Line 6"/>
          <p:cNvSpPr/>
          <p:nvPr/>
        </p:nvSpPr>
        <p:spPr>
          <a:xfrm flipH="1">
            <a:off x="5334120" y="6332400"/>
            <a:ext cx="129528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7"/>
          <p:cNvSpPr/>
          <p:nvPr/>
        </p:nvSpPr>
        <p:spPr>
          <a:xfrm flipH="1" flipV="1">
            <a:off x="5105520" y="4732200"/>
            <a:ext cx="1295280" cy="15264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8"/>
          <p:cNvSpPr/>
          <p:nvPr/>
        </p:nvSpPr>
        <p:spPr>
          <a:xfrm>
            <a:off x="6496200" y="4713120"/>
            <a:ext cx="71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GL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9"/>
          <p:cNvSpPr/>
          <p:nvPr/>
        </p:nvSpPr>
        <p:spPr>
          <a:xfrm>
            <a:off x="6674760" y="6180120"/>
            <a:ext cx="98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OpenG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TextBox 2"/>
          <p:cNvSpPr/>
          <p:nvPr/>
        </p:nvSpPr>
        <p:spPr>
          <a:xfrm>
            <a:off x="2375640" y="457200"/>
            <a:ext cx="3467160" cy="69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emory F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tangle 3"/>
          <p:cNvSpPr/>
          <p:nvPr/>
        </p:nvSpPr>
        <p:spPr>
          <a:xfrm>
            <a:off x="631800" y="1424160"/>
            <a:ext cx="8512200" cy="447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reads may see effects of a series of writes to memory executed by another thread in different orders. To enforce order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void __threadfence_block(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aits until all global and shared memory accesses made by calling thread prior to </a:t>
            </a: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__threadfence_block()</a:t>
            </a:r>
            <a:r>
              <a:rPr b="1" lang="en-US" sz="2400" spc="-1" strike="noStrike">
                <a:solidFill>
                  <a:srgbClr val="4d7373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re visible to all threads in thread bloc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ther routin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void __threadfence(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void __threadfence_system(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Slide Number Placeholder 1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33B81-B9F2-4459-8362-BABC522A5A28}" type="slidenum">
              <a:rPr b="0" lang="en-GB" sz="1000" spc="-1" strike="noStrike">
                <a:solidFill>
                  <a:srgbClr val="000000"/>
                </a:solidFill>
                <a:latin typeface="Calibri"/>
                <a:ea typeface="DejaVu San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Rectangle 2"/>
          <p:cNvSpPr/>
          <p:nvPr/>
        </p:nvSpPr>
        <p:spPr>
          <a:xfrm>
            <a:off x="631800" y="1562040"/>
            <a:ext cx="8224920" cy="49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Writes to device memory not guaranteed in any order, so global writes may not have completed by the time the lock is unlocked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Calibri"/>
              </a:rPr>
              <a:t>__global__ void kernel(...) {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Calibri"/>
              </a:rPr>
              <a:t>  </a:t>
            </a:r>
            <a:r>
              <a:rPr b="1" lang="en-US" sz="2200" spc="-1" strike="noStrike">
                <a:solidFill>
                  <a:srgbClr val="0000ff"/>
                </a:solidFill>
                <a:latin typeface="Calibri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Calibri"/>
              </a:rPr>
              <a:t>  </a:t>
            </a:r>
            <a:r>
              <a:rPr b="1" lang="en-US" sz="2200" spc="-1" strike="noStrike">
                <a:solidFill>
                  <a:srgbClr val="0000ff"/>
                </a:solidFill>
                <a:latin typeface="Calibri"/>
              </a:rPr>
              <a:t>do {} while(atomicCAS(&amp;lock,0,1)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Calibri"/>
              </a:rPr>
              <a:t>  </a:t>
            </a:r>
            <a:r>
              <a:rPr b="1" lang="en-US" sz="2200" spc="-1" strike="noStrike">
                <a:solidFill>
                  <a:srgbClr val="0000ff"/>
                </a:solidFill>
                <a:latin typeface="Calibri"/>
              </a:rPr>
              <a:t>...</a:t>
            </a:r>
            <a:r>
              <a:rPr b="1" lang="en-US" sz="22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en-US" sz="22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en-US" sz="22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en-US" sz="22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en-US" sz="22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en-US" sz="22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en-US" sz="22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en-US" sz="22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en-US" sz="22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en-US" sz="22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en-US" sz="22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en-US" sz="22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en-US" sz="22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en-US" sz="2200" spc="-1" strike="noStrike">
                <a:solidFill>
                  <a:srgbClr val="0000ff"/>
                </a:solidFill>
                <a:latin typeface="Calibri"/>
              </a:rPr>
              <a:t>// critical s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Calibri"/>
              </a:rPr>
              <a:t>  </a:t>
            </a:r>
            <a:r>
              <a:rPr b="1" lang="en-US" sz="2200" spc="-1" strike="noStrike">
                <a:solidFill>
                  <a:srgbClr val="0000ff"/>
                </a:solidFill>
                <a:latin typeface="Calibri"/>
              </a:rPr>
              <a:t>__threadfence(); // wait for writes to finis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Calibri"/>
              </a:rPr>
              <a:t>  </a:t>
            </a:r>
            <a:r>
              <a:rPr b="1" lang="en-US" sz="2200" spc="-1" strike="noStrike">
                <a:solidFill>
                  <a:srgbClr val="0000ff"/>
                </a:solidFill>
                <a:latin typeface="Calibri"/>
              </a:rPr>
              <a:t>lock = 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Calibri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3"/>
          <p:cNvSpPr/>
          <p:nvPr/>
        </p:nvSpPr>
        <p:spPr>
          <a:xfrm>
            <a:off x="631800" y="317520"/>
            <a:ext cx="7672320" cy="11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ritical sections with memory oper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Calibri"/>
              </a:rPr>
              <a:t>Atomic Functions</a:t>
            </a:r>
            <a:endParaRPr b="1" lang="en-US" sz="39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414" name="Content Placeholder 2"/>
          <p:cNvSpPr/>
          <p:nvPr/>
        </p:nvSpPr>
        <p:spPr>
          <a:xfrm>
            <a:off x="457200" y="198108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do you implement </a:t>
            </a:r>
            <a:r>
              <a:rPr b="0" lang="en-US" sz="3200" spc="-1" strike="noStrike">
                <a:solidFill>
                  <a:srgbClr val="d60093"/>
                </a:solidFill>
                <a:latin typeface="Courier New"/>
              </a:rPr>
              <a:t>atomicInc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Rectangle 3"/>
          <p:cNvSpPr/>
          <p:nvPr/>
        </p:nvSpPr>
        <p:spPr>
          <a:xfrm>
            <a:off x="838080" y="2971800"/>
            <a:ext cx="6934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7680" indent="-403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60093"/>
                </a:solidFill>
                <a:latin typeface="Courier New"/>
              </a:rPr>
              <a:t>__device__</a:t>
            </a:r>
            <a:r>
              <a:rPr b="0" lang="en-US" sz="2800" spc="-1" strike="noStrike">
                <a:solidFill>
                  <a:srgbClr val="330066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b3b3b3"/>
                </a:solidFill>
                <a:latin typeface="Courier New"/>
              </a:rPr>
              <a:t>int</a:t>
            </a:r>
            <a:r>
              <a:rPr b="0" lang="en-US" sz="2800" spc="-1" strike="noStrike">
                <a:solidFill>
                  <a:srgbClr val="330066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d60093"/>
                </a:solidFill>
                <a:latin typeface="Courier New"/>
              </a:rPr>
              <a:t>atomicAdd</a:t>
            </a:r>
            <a:r>
              <a:rPr b="0" lang="en-US" sz="2800" spc="-1" strike="noStrike">
                <a:solidFill>
                  <a:srgbClr val="330066"/>
                </a:solidFill>
                <a:latin typeface="Courier New"/>
              </a:rPr>
              <a:t>(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7680" indent="-403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66"/>
                </a:solidFill>
                <a:latin typeface="Courier New"/>
              </a:rPr>
              <a:t>  </a:t>
            </a:r>
            <a:r>
              <a:rPr b="0" lang="en-US" sz="2800" spc="-1" strike="noStrike">
                <a:solidFill>
                  <a:srgbClr val="b3b3b3"/>
                </a:solidFill>
                <a:latin typeface="Courier New"/>
              </a:rPr>
              <a:t>int</a:t>
            </a:r>
            <a:r>
              <a:rPr b="0" lang="en-US" sz="2800" spc="-1" strike="noStrike">
                <a:solidFill>
                  <a:srgbClr val="330066"/>
                </a:solidFill>
                <a:latin typeface="Courier New"/>
              </a:rPr>
              <a:t> *address, </a:t>
            </a:r>
            <a:r>
              <a:rPr b="0" lang="en-US" sz="2800" spc="-1" strike="noStrike">
                <a:solidFill>
                  <a:srgbClr val="b3b3b3"/>
                </a:solidFill>
                <a:latin typeface="Courier New"/>
              </a:rPr>
              <a:t>int</a:t>
            </a:r>
            <a:r>
              <a:rPr b="0" lang="en-US" sz="2800" spc="-1" strike="noStrike">
                <a:solidFill>
                  <a:srgbClr val="330066"/>
                </a:solidFill>
                <a:latin typeface="Courier New"/>
              </a:rPr>
              <a:t> val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Calibri"/>
              </a:rPr>
              <a:t>Atomic Functions</a:t>
            </a:r>
            <a:endParaRPr b="1" lang="en-US" sz="39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417" name="Content Placeholder 2"/>
          <p:cNvSpPr/>
          <p:nvPr/>
        </p:nvSpPr>
        <p:spPr>
          <a:xfrm>
            <a:off x="457200" y="198108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do you implement </a:t>
            </a:r>
            <a:r>
              <a:rPr b="0" lang="en-US" sz="3200" spc="-1" strike="noStrike">
                <a:solidFill>
                  <a:srgbClr val="d60093"/>
                </a:solidFill>
                <a:latin typeface="Courier New"/>
              </a:rPr>
              <a:t>atomicInc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Rectangle 3"/>
          <p:cNvSpPr/>
          <p:nvPr/>
        </p:nvSpPr>
        <p:spPr>
          <a:xfrm>
            <a:off x="838080" y="2971800"/>
            <a:ext cx="6934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7680" indent="-403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60093"/>
                </a:solidFill>
                <a:latin typeface="Courier New"/>
              </a:rPr>
              <a:t>__device__</a:t>
            </a:r>
            <a:r>
              <a:rPr b="0" lang="en-US" sz="2800" spc="-1" strike="noStrike">
                <a:solidFill>
                  <a:srgbClr val="330066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b3b3b3"/>
                </a:solidFill>
                <a:latin typeface="Courier New"/>
              </a:rPr>
              <a:t>int</a:t>
            </a:r>
            <a:r>
              <a:rPr b="0" lang="en-US" sz="2800" spc="-1" strike="noStrike">
                <a:solidFill>
                  <a:srgbClr val="330066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d60093"/>
                </a:solidFill>
                <a:latin typeface="Courier New"/>
              </a:rPr>
              <a:t>atomicAdd</a:t>
            </a:r>
            <a:r>
              <a:rPr b="0" lang="en-US" sz="2800" spc="-1" strike="noStrike">
                <a:solidFill>
                  <a:srgbClr val="330066"/>
                </a:solidFill>
                <a:latin typeface="Courier New"/>
              </a:rPr>
              <a:t>(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7680" indent="-403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66"/>
                </a:solidFill>
                <a:latin typeface="Courier New"/>
              </a:rPr>
              <a:t>  </a:t>
            </a:r>
            <a:r>
              <a:rPr b="0" lang="en-US" sz="2800" spc="-1" strike="noStrike">
                <a:solidFill>
                  <a:srgbClr val="b3b3b3"/>
                </a:solidFill>
                <a:latin typeface="Courier New"/>
              </a:rPr>
              <a:t>int</a:t>
            </a:r>
            <a:r>
              <a:rPr b="0" lang="en-US" sz="2800" spc="-1" strike="noStrike">
                <a:solidFill>
                  <a:srgbClr val="330066"/>
                </a:solidFill>
                <a:latin typeface="Courier New"/>
              </a:rPr>
              <a:t> *address, </a:t>
            </a:r>
            <a:r>
              <a:rPr b="0" lang="en-US" sz="2800" spc="-1" strike="noStrike">
                <a:solidFill>
                  <a:srgbClr val="b3b3b3"/>
                </a:solidFill>
                <a:latin typeface="Courier New"/>
              </a:rPr>
              <a:t>int</a:t>
            </a:r>
            <a:r>
              <a:rPr b="0" lang="en-US" sz="2800" spc="-1" strike="noStrike">
                <a:solidFill>
                  <a:srgbClr val="330066"/>
                </a:solidFill>
                <a:latin typeface="Courier New"/>
              </a:rPr>
              <a:t> v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7680" indent="-403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66"/>
                </a:solidFill>
                <a:latin typeface="Courier New"/>
              </a:rPr>
              <a:t>{ </a:t>
            </a:r>
            <a:r>
              <a:rPr b="0" lang="en-US" sz="2800" spc="-1" strike="noStrike">
                <a:solidFill>
                  <a:srgbClr val="008000"/>
                </a:solidFill>
                <a:latin typeface="Courier New"/>
              </a:rPr>
              <a:t>// Made up keywor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7680" indent="-403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66"/>
                </a:solidFill>
                <a:latin typeface="Courier New"/>
              </a:rPr>
              <a:t>  </a:t>
            </a:r>
            <a:r>
              <a:rPr b="0" lang="en-US" sz="2800" spc="-1" strike="noStrike">
                <a:solidFill>
                  <a:srgbClr val="d60093"/>
                </a:solidFill>
                <a:latin typeface="Courier New"/>
              </a:rPr>
              <a:t>__lock</a:t>
            </a:r>
            <a:r>
              <a:rPr b="0" lang="en-US" sz="2800" spc="-1" strike="noStrike">
                <a:solidFill>
                  <a:srgbClr val="330066"/>
                </a:solidFill>
                <a:latin typeface="Courier New"/>
              </a:rPr>
              <a:t> (address) {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7680" indent="-403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66"/>
                </a:solidFill>
                <a:latin typeface="Courier New"/>
              </a:rPr>
              <a:t>    </a:t>
            </a:r>
            <a:r>
              <a:rPr b="0" lang="en-US" sz="2800" spc="-1" strike="noStrike">
                <a:solidFill>
                  <a:srgbClr val="330066"/>
                </a:solidFill>
                <a:latin typeface="Courier New"/>
              </a:rPr>
              <a:t>*address += valu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7680" indent="-403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66"/>
                </a:solidFill>
                <a:latin typeface="Courier New"/>
              </a:rPr>
              <a:t>  </a:t>
            </a:r>
            <a:r>
              <a:rPr b="0" lang="en-US" sz="2800" spc="-1" strike="noStrike">
                <a:solidFill>
                  <a:srgbClr val="330066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7680" indent="-403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66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Calibri"/>
              </a:rPr>
              <a:t>Atomic Functions</a:t>
            </a:r>
            <a:endParaRPr b="1" lang="en-US" sz="39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420" name="Content Placeholder 2"/>
          <p:cNvSpPr/>
          <p:nvPr/>
        </p:nvSpPr>
        <p:spPr>
          <a:xfrm>
            <a:off x="457200" y="1981080"/>
            <a:ext cx="8534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ts of atomic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3"/>
          <p:cNvSpPr/>
          <p:nvPr/>
        </p:nvSpPr>
        <p:spPr>
          <a:xfrm>
            <a:off x="838080" y="2743200"/>
            <a:ext cx="69343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7680" indent="-403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ourier New"/>
              </a:rPr>
              <a:t>// Arithmetic      // Bitw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7680" indent="-403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60093"/>
                </a:solidFill>
                <a:latin typeface="Courier New"/>
              </a:rPr>
              <a:t>atomicAd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)</a:t>
            </a:r>
            <a:r>
              <a:rPr b="0" lang="en-US" sz="2400" spc="-1" strike="noStrike">
                <a:solidFill>
                  <a:srgbClr val="d60093"/>
                </a:solidFill>
                <a:latin typeface="Courier New"/>
              </a:rPr>
              <a:t>        atomicAn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7680" indent="-403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60093"/>
                </a:solidFill>
                <a:latin typeface="Courier New"/>
              </a:rPr>
              <a:t>atomicSub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)</a:t>
            </a:r>
            <a:r>
              <a:rPr b="0" lang="en-US" sz="2400" spc="-1" strike="noStrike">
                <a:solidFill>
                  <a:srgbClr val="d60093"/>
                </a:solidFill>
                <a:latin typeface="Courier New"/>
              </a:rPr>
              <a:t>        atomicOr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7680" indent="-403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60093"/>
                </a:solidFill>
                <a:latin typeface="Courier New"/>
              </a:rPr>
              <a:t>atomicExch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)</a:t>
            </a:r>
            <a:r>
              <a:rPr b="0" lang="en-US" sz="2400" spc="-1" strike="noStrike">
                <a:solidFill>
                  <a:srgbClr val="d60093"/>
                </a:solidFill>
                <a:latin typeface="Courier New"/>
              </a:rPr>
              <a:t>       atomicXor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7680" indent="-403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60093"/>
                </a:solidFill>
                <a:latin typeface="Courier New"/>
              </a:rPr>
              <a:t>atomicMin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7680" indent="-403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60093"/>
                </a:solidFill>
                <a:latin typeface="Courier New"/>
              </a:rPr>
              <a:t>atomicMax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7680" indent="-403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60093"/>
                </a:solidFill>
                <a:latin typeface="Courier New"/>
              </a:rPr>
              <a:t>atomicInc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7680" indent="-403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60093"/>
                </a:solidFill>
                <a:latin typeface="Courier New"/>
              </a:rPr>
              <a:t>atomicDec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7680" indent="-403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60093"/>
                </a:solidFill>
                <a:latin typeface="Courier New"/>
              </a:rPr>
              <a:t>atomicCAS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4"/>
          <p:cNvSpPr/>
          <p:nvPr/>
        </p:nvSpPr>
        <p:spPr>
          <a:xfrm>
            <a:off x="0" y="655308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B.10 in the NVIDIA CUDA C Programming Gui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Calibri"/>
              </a:rPr>
              <a:t>Concurrent Execution between Host and Device</a:t>
            </a:r>
            <a:endParaRPr b="1" lang="en-US" sz="36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457200" y="171936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order to facilitate concurrent execution between host and device, some function calls are asynchronou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trol is returned to the host thread before the device has completed the requested tas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xamples of asynchronous cal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Kernel launch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vice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$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device memory cop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ost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$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device memory copies of a memory block of 64 KB or les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emory copies performed by functions that are suffixed with Asyn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OTE: When an application is run via a CUDA debugger or profiler (cuda-gdb, CUDA Visual Profiler, Parallel Nsight), all launches are synchronou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F6AFF-3770-4803-BBAC-E0147230E18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543800" cy="1113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Calibri"/>
              </a:rPr>
              <a:t>Concurrent Kernel Execution</a:t>
            </a:r>
            <a:br>
              <a:rPr sz="3900"/>
            </a:br>
            <a:r>
              <a:rPr b="1" lang="en-US" sz="2000" spc="-1" strike="noStrike">
                <a:solidFill>
                  <a:srgbClr val="330066"/>
                </a:solidFill>
                <a:latin typeface="Calibri"/>
              </a:rPr>
              <a:t>[CUDA 3.2]</a:t>
            </a:r>
            <a:endParaRPr b="1" lang="en-US" sz="20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151920" y="1719360"/>
            <a:ext cx="8915400" cy="277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eature allows up to 16 kernels to be run on the device at the same tim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hen is this useful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92280" indent="-347760"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evices of compute capability 2.x are pretty wide (large number of SM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92280" indent="-347760"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ometimes you launch kernels whose execution configuration is smaller than the GPU’s “width”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92280" indent="-347760"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n, two or three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independent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kernels can be “squeezed” on the GPU at the same ti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presents one of GPU’s attempts to look like a MIMD architectur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0CF5F-79A1-4723-9A33-F660067BC65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Picture 2" descr=""/>
          <p:cNvPicPr/>
          <p:nvPr/>
        </p:nvPicPr>
        <p:blipFill>
          <a:blip r:embed="rId1"/>
          <a:stretch/>
        </p:blipFill>
        <p:spPr>
          <a:xfrm>
            <a:off x="2367000" y="4495680"/>
            <a:ext cx="4349880" cy="22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7543800" cy="808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Calibri"/>
              </a:rPr>
              <a:t>Host-Device Data Transfer Issues</a:t>
            </a:r>
            <a:endParaRPr b="1" lang="en-US" sz="36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75960" y="1795320"/>
            <a:ext cx="8915400" cy="491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 general, host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$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device data transfers using cudaMemcpy() are block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92280" indent="-347760"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trol is returned to the host thread only after the data transfer is comple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92280" indent="-347760"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re is a non-blocking variant, cudaMemcpyAsync(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92280" indent="-347760">
              <a:spcBef>
                <a:spcPts val="4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he host does not wait on the device to finish the mem copy and the kernel call for it to start execution of cpuFunction() cal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692280" indent="-347760">
              <a:spcBef>
                <a:spcPts val="4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he launch of “kernel” only happens after the mem copy call finish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OTE: the asynchronous transfer version requires pinned host memory (More later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98E6D-C578-4E3D-A9A9-3348C9E59E9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Picture 2" descr=""/>
          <p:cNvPicPr/>
          <p:nvPr/>
        </p:nvPicPr>
        <p:blipFill>
          <a:blip r:embed="rId1"/>
          <a:stretch/>
        </p:blipFill>
        <p:spPr>
          <a:xfrm>
            <a:off x="1523880" y="3352680"/>
            <a:ext cx="618984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543800" cy="144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66"/>
                </a:solidFill>
                <a:latin typeface="Calibri"/>
              </a:rPr>
              <a:t>Overlapping Host </a:t>
            </a:r>
            <a:r>
              <a:rPr b="1" lang="en-US" sz="3200" spc="-1" strike="noStrike">
                <a:solidFill>
                  <a:srgbClr val="330066"/>
                </a:solidFill>
                <a:latin typeface="cmsy10"/>
              </a:rPr>
              <a:t>$</a:t>
            </a:r>
            <a:r>
              <a:rPr b="1" lang="en-US" sz="3200" spc="-1" strike="noStrike">
                <a:solidFill>
                  <a:srgbClr val="330066"/>
                </a:solidFill>
                <a:latin typeface="Calibri"/>
              </a:rPr>
              <a:t> Device Data Transfer </a:t>
            </a:r>
            <a:br>
              <a:rPr sz="3200"/>
            </a:br>
            <a:r>
              <a:rPr b="1" lang="en-US" sz="3200" spc="-1" strike="noStrike">
                <a:solidFill>
                  <a:srgbClr val="330066"/>
                </a:solidFill>
                <a:latin typeface="Calibri"/>
              </a:rPr>
              <a:t>with Device Execution</a:t>
            </a:r>
            <a:endParaRPr b="1" lang="en-US" sz="32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228600" y="2057040"/>
            <a:ext cx="87631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hen is this overlapping useful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92280" indent="-347760"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agine a kernel executes on the device and only works with the lower half of the device memo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92280" indent="-347760"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n, you can copy data from host to device in the upper half of the device memory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92280" indent="-347760"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se two operations can take place simultaneousl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92280" indent="-347760">
              <a:spcBef>
                <a:spcPts val="4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ote that there is a issue with this idea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92280" indent="-347760"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device execution stack is FIFO, one function call on the device is not serviced until all the previous device function calls complet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92280" indent="-347760"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s would prevent overlapping execution with data transf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92280" indent="-347760"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s issue was addressed by the use of CUDA “streams” (More later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8D1F6-4152-4A31-A29A-065486937BB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Calibri"/>
              </a:rPr>
              <a:t>Page-Locked Host Memory</a:t>
            </a:r>
            <a:endParaRPr b="1" lang="en-US" sz="39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0000"/>
                </a:solidFill>
                <a:latin typeface="Calibri"/>
              </a:rPr>
              <a:t>Page-locked Memor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Host memory that is essentially removed from virtual memor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lso called </a:t>
            </a:r>
            <a:r>
              <a:rPr b="0" i="1" lang="en-US" sz="2600" spc="-1" strike="noStrike">
                <a:solidFill>
                  <a:srgbClr val="ff0000"/>
                </a:solidFill>
                <a:latin typeface="Calibri"/>
              </a:rPr>
              <a:t>Pinned Memor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Calibri"/>
              </a:rPr>
              <a:t>Graphics Interoperability</a:t>
            </a:r>
            <a:endParaRPr b="1" lang="en-US" sz="39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0000"/>
                </a:solidFill>
                <a:latin typeface="Calibri"/>
              </a:rPr>
              <a:t>Graphics Interop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:  Map GL (OpenGL) resource into CUDA address spac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Buffers (Off screen buffer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extur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enderbuff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Calibri"/>
              </a:rPr>
              <a:t>Page-Locked Host Memory</a:t>
            </a:r>
            <a:endParaRPr b="1" lang="en-US" sz="39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457200" y="1980720"/>
            <a:ext cx="8229600" cy="10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Benefit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Overlap kernel execution and data transf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Text Box 4"/>
          <p:cNvSpPr/>
          <p:nvPr/>
        </p:nvSpPr>
        <p:spPr>
          <a:xfrm>
            <a:off x="0" y="655308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G.1 in the NVIDIA CUDA C Programming Guide for full compute capability requir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Box 5"/>
          <p:cNvSpPr/>
          <p:nvPr/>
        </p:nvSpPr>
        <p:spPr>
          <a:xfrm>
            <a:off x="990720" y="35924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3" name="Straight Arrow Connector 6"/>
          <p:cNvCxnSpPr/>
          <p:nvPr/>
        </p:nvCxnSpPr>
        <p:spPr>
          <a:xfrm>
            <a:off x="1679040" y="3777840"/>
            <a:ext cx="5218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44" name="TextBox 7"/>
          <p:cNvSpPr/>
          <p:nvPr/>
        </p:nvSpPr>
        <p:spPr>
          <a:xfrm>
            <a:off x="1679400" y="4202280"/>
            <a:ext cx="2438640" cy="36828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Trans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Box 10"/>
          <p:cNvSpPr/>
          <p:nvPr/>
        </p:nvSpPr>
        <p:spPr>
          <a:xfrm>
            <a:off x="4114800" y="4202280"/>
            <a:ext cx="2438280" cy="368280"/>
          </a:xfrm>
          <a:prstGeom prst="rect">
            <a:avLst/>
          </a:pr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rnel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Box 14"/>
          <p:cNvSpPr/>
          <p:nvPr/>
        </p:nvSpPr>
        <p:spPr>
          <a:xfrm>
            <a:off x="1676520" y="4964040"/>
            <a:ext cx="2438280" cy="36828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Trans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Box 15"/>
          <p:cNvSpPr/>
          <p:nvPr/>
        </p:nvSpPr>
        <p:spPr>
          <a:xfrm>
            <a:off x="1905120" y="5421240"/>
            <a:ext cx="2438280" cy="368280"/>
          </a:xfrm>
          <a:prstGeom prst="rect">
            <a:avLst/>
          </a:pr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rnel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Box 16"/>
          <p:cNvSpPr/>
          <p:nvPr/>
        </p:nvSpPr>
        <p:spPr>
          <a:xfrm>
            <a:off x="586440" y="4264200"/>
            <a:ext cx="9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rmally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Box 17"/>
          <p:cNvSpPr/>
          <p:nvPr/>
        </p:nvSpPr>
        <p:spPr>
          <a:xfrm>
            <a:off x="231840" y="5038560"/>
            <a:ext cx="132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ged-locke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Calibri"/>
              </a:rPr>
              <a:t>Page-Locked Host Memory</a:t>
            </a:r>
            <a:endParaRPr b="1" lang="en-US" sz="39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457200" y="198072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Benefit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ncreased memory bandwidth for systems with a front-side bus (carries data from CPU to north bridge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Up to ~2x throughput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Text Box 6"/>
          <p:cNvSpPr/>
          <p:nvPr/>
        </p:nvSpPr>
        <p:spPr>
          <a:xfrm>
            <a:off x="0" y="655308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from http://arstechnica.com/hardware/news/2009/10/day-of-nvidia-chipset-reckoning-arrives.a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3" name="Picture 5" descr="c2d-system"/>
          <p:cNvPicPr/>
          <p:nvPr/>
        </p:nvPicPr>
        <p:blipFill>
          <a:blip r:embed="rId1"/>
          <a:stretch/>
        </p:blipFill>
        <p:spPr>
          <a:xfrm>
            <a:off x="5775480" y="3352680"/>
            <a:ext cx="29397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Calibri"/>
              </a:rPr>
              <a:t>Page-Locked Host Memory</a:t>
            </a:r>
            <a:endParaRPr b="1" lang="en-US" sz="39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457200" y="1981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Benefit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aged-locked </a:t>
            </a:r>
            <a:r>
              <a:rPr b="0" i="1" lang="en-US" sz="2600" spc="-1" strike="noStrike">
                <a:solidFill>
                  <a:srgbClr val="ff9933"/>
                </a:solidFill>
                <a:latin typeface="Calibri"/>
              </a:rPr>
              <a:t>host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memory can be mapped into the address space of the </a:t>
            </a:r>
            <a:r>
              <a:rPr b="0" i="1" lang="en-US" sz="2600" spc="-1" strike="noStrike">
                <a:solidFill>
                  <a:srgbClr val="ff9933"/>
                </a:solidFill>
                <a:latin typeface="Calibri"/>
              </a:rPr>
              <a:t>device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on some system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oes your system support this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Call </a:t>
            </a:r>
            <a:r>
              <a:rPr b="0" lang="en-US" sz="2300" spc="-1" strike="noStrike">
                <a:solidFill>
                  <a:srgbClr val="d60093"/>
                </a:solidFill>
                <a:latin typeface="Courier New"/>
                <a:ea typeface="Courier New"/>
              </a:rPr>
              <a:t>cudaGetDeviceProperties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()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and check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canMapHostMemory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Calibri"/>
                <a:ea typeface="Calibri"/>
              </a:rPr>
              <a:t>Page-Locked Host Memory</a:t>
            </a:r>
            <a:endParaRPr b="1" lang="en-US" sz="36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Previously allocated memory on host using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malloc( 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Another mechanism for CUDA programs to allocate memory on host using command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cudaHostAlloc( 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Key difference between between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malloc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and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cudaHostAlloc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OS can page memory allocated by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malloc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out to disk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OS cannot page memory allocated by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cudaHostAlloc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out to disk: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page-Locked!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Since address of page-locked host memory never changes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OS can let application access physical addres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GPU can use DMA to copy data to hos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GPU-CPU Copy speed over 2x over pageable memory on most system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Calibri"/>
                <a:ea typeface="Calibri"/>
              </a:rPr>
              <a:t>Page-Locked Host Memory</a:t>
            </a:r>
            <a:endParaRPr b="1" lang="en-US" sz="36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Disadvantage of page-locked memory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Application needs physical memory for every page-locked buff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Memory on host runs out quick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Other programs running on system can be affect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Next, we create an example program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Compares speed of pageable vs page-locked memory for copy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Allocates equal size memory on GPU and CP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Copies data either GPU-to-host (up) or from host-to-GPU (down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Uses pageable or page-locked memory and compares spe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Calibri"/>
                <a:ea typeface="Calibri"/>
              </a:rPr>
              <a:t>Page-Locked Host Memory</a:t>
            </a:r>
            <a:endParaRPr b="1" lang="en-US" sz="36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Disadvantage of page-locked memory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Application needs physical memory for every page-locked buff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Memory on host runs out quick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Other programs running on system can be affect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Next, we create an example program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Compares speed of pageable vs page-locked memory for copy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Allocates equal size memory on GPU and CP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Copies data either GPU-to-host (up) or from host-to-GPU (down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Uses pageable or page-locked memory and compares spe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Calibri"/>
                <a:ea typeface="Calibri"/>
              </a:rPr>
              <a:t>Page-Locked Host Memory</a:t>
            </a:r>
            <a:endParaRPr b="1" lang="en-US" sz="36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463" name=""/>
          <p:cNvSpPr txBox="1"/>
          <p:nvPr/>
        </p:nvSpPr>
        <p:spPr>
          <a:xfrm>
            <a:off x="380880" y="159984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Performance shall be timed using CUDA events as befor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Allocate host and GPU buffers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ize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integ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4" name="Picture 2" descr=""/>
          <p:cNvPicPr/>
          <p:nvPr/>
        </p:nvPicPr>
        <p:blipFill>
          <a:blip r:embed="rId1"/>
          <a:stretch/>
        </p:blipFill>
        <p:spPr>
          <a:xfrm>
            <a:off x="990720" y="2449440"/>
            <a:ext cx="7304040" cy="3753000"/>
          </a:xfrm>
          <a:prstGeom prst="rect">
            <a:avLst/>
          </a:prstGeom>
          <a:ln w="0">
            <a:noFill/>
          </a:ln>
        </p:spPr>
      </p:pic>
      <p:sp>
        <p:nvSpPr>
          <p:cNvPr id="465" name="TextBox 4"/>
          <p:cNvSpPr/>
          <p:nvPr/>
        </p:nvSpPr>
        <p:spPr>
          <a:xfrm>
            <a:off x="496800" y="6488280"/>
            <a:ext cx="7453080" cy="3682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version uses standard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lloc( 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allocat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geabl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st 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6" name="Straight Arrow Connector 6"/>
          <p:cNvCxnSpPr>
            <a:stCxn id="465" idx="0"/>
          </p:cNvCxnSpPr>
          <p:nvPr/>
        </p:nvCxnSpPr>
        <p:spPr>
          <a:xfrm flipH="1" flipV="1">
            <a:off x="3351960" y="5191920"/>
            <a:ext cx="872280" cy="129636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Calibri"/>
                <a:ea typeface="Calibri"/>
              </a:rPr>
              <a:t>Page-Locked Host Memory</a:t>
            </a:r>
            <a:endParaRPr b="1" lang="en-US" sz="36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468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Perform 100 copies in direction specified by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u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Stop timer after copy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9" name="Picture 2" descr=""/>
          <p:cNvPicPr/>
          <p:nvPr/>
        </p:nvPicPr>
        <p:blipFill>
          <a:blip r:embed="rId1"/>
          <a:stretch/>
        </p:blipFill>
        <p:spPr>
          <a:xfrm>
            <a:off x="1066680" y="2743200"/>
            <a:ext cx="6096240" cy="38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Calibri"/>
                <a:ea typeface="Calibri"/>
              </a:rPr>
              <a:t>Page-Locked Host Memory</a:t>
            </a:r>
            <a:endParaRPr b="1" lang="en-US" sz="36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Clean up by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Freeing host and GPU buff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Destroying timer ev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2" name="Picture 2" descr=""/>
          <p:cNvPicPr/>
          <p:nvPr/>
        </p:nvPicPr>
        <p:blipFill>
          <a:blip r:embed="rId1"/>
          <a:stretch/>
        </p:blipFill>
        <p:spPr>
          <a:xfrm>
            <a:off x="685800" y="3124080"/>
            <a:ext cx="7294680" cy="22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Calibri"/>
                <a:ea typeface="Calibri"/>
              </a:rPr>
              <a:t>Page-Locked Host Memory</a:t>
            </a:r>
            <a:endParaRPr b="1" lang="en-US" sz="36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474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Consider version of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cuda_malloc_test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using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cudaHostAlloc( 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5" name="Picture 3" descr=""/>
          <p:cNvPicPr/>
          <p:nvPr/>
        </p:nvPicPr>
        <p:blipFill>
          <a:blip r:embed="rId1"/>
          <a:stretch/>
        </p:blipFill>
        <p:spPr>
          <a:xfrm>
            <a:off x="1295280" y="2362320"/>
            <a:ext cx="6726240" cy="36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Calibri"/>
              </a:rPr>
              <a:t>Graphics Interoperability</a:t>
            </a:r>
            <a:endParaRPr b="1" lang="en-US" sz="39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56840" y="1981080"/>
            <a:ext cx="85345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penGL Buffer Interop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spcBef>
                <a:spcPts val="649"/>
              </a:spcBef>
              <a:buClr>
                <a:srgbClr val="669999"/>
              </a:buClr>
              <a:buSzPct val="70000"/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ourier New"/>
              </a:rPr>
              <a:t>Assign device with GL intero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514440">
              <a:lnSpc>
                <a:spcPct val="100000"/>
              </a:lnSpc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d60093"/>
                </a:solidFill>
                <a:latin typeface="Courier New"/>
                <a:ea typeface="Courier New"/>
              </a:rPr>
              <a:t>cudaGLSetGLDevice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()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spcBef>
                <a:spcPts val="649"/>
              </a:spcBef>
              <a:buClr>
                <a:srgbClr val="669999"/>
              </a:buClr>
              <a:buSzPct val="70000"/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egister GL resource with CUD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514440">
              <a:lnSpc>
                <a:spcPct val="100000"/>
              </a:lnSpc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d60093"/>
                </a:solidFill>
                <a:latin typeface="Courier New"/>
                <a:ea typeface="Courier New"/>
              </a:rPr>
              <a:t>cudaGraphicsGLRegisterBuffer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()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spcBef>
                <a:spcPts val="649"/>
              </a:spcBef>
              <a:buClr>
                <a:srgbClr val="669999"/>
              </a:buClr>
              <a:buSzPct val="70000"/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ap 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514440">
              <a:lnSpc>
                <a:spcPct val="100000"/>
              </a:lnSpc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d60093"/>
                </a:solidFill>
                <a:latin typeface="Courier New"/>
                <a:ea typeface="Courier New"/>
              </a:rPr>
              <a:t>cudaGraphicsMapResources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()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spcBef>
                <a:spcPts val="649"/>
              </a:spcBef>
              <a:buClr>
                <a:srgbClr val="669999"/>
              </a:buClr>
              <a:buSzPct val="70000"/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Get mapped poin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514440">
              <a:lnSpc>
                <a:spcPct val="100000"/>
              </a:lnSpc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d60093"/>
                </a:solidFill>
                <a:latin typeface="Courier New"/>
                <a:ea typeface="Courier New"/>
              </a:rPr>
              <a:t>cudaGraphicsResourceGetMappedPointer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()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Calibri"/>
                <a:ea typeface="Calibri"/>
              </a:rPr>
              <a:t>Page-Locked Host Memory</a:t>
            </a:r>
            <a:endParaRPr b="1" lang="en-US" sz="3600" spc="-1" strike="noStrike">
              <a:solidFill>
                <a:srgbClr val="330066"/>
              </a:solidFill>
              <a:latin typeface="Calibri"/>
            </a:endParaRPr>
          </a:p>
        </p:txBody>
      </p:sp>
      <p:pic>
        <p:nvPicPr>
          <p:cNvPr id="477" name="Picture 2" descr=""/>
          <p:cNvPicPr/>
          <p:nvPr/>
        </p:nvPicPr>
        <p:blipFill>
          <a:blip r:embed="rId1"/>
          <a:stretch/>
        </p:blipFill>
        <p:spPr>
          <a:xfrm>
            <a:off x="685800" y="1600200"/>
            <a:ext cx="6904080" cy="22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Calibri"/>
                <a:ea typeface="Calibri"/>
              </a:rPr>
              <a:t>Page-Locked Host Memory</a:t>
            </a:r>
            <a:endParaRPr b="1" lang="en-US" sz="3600" spc="-1" strike="noStrike">
              <a:solidFill>
                <a:srgbClr val="330066"/>
              </a:solidFill>
              <a:latin typeface="Calibri"/>
            </a:endParaRPr>
          </a:p>
        </p:txBody>
      </p:sp>
      <p:pic>
        <p:nvPicPr>
          <p:cNvPr id="479" name="Picture 2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672336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Calibri"/>
                <a:ea typeface="Calibri"/>
              </a:rPr>
              <a:t>Page-Locked Host Memory</a:t>
            </a:r>
            <a:endParaRPr b="1" lang="en-US" sz="36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481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The main func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2" name="Picture 2" descr=""/>
          <p:cNvPicPr/>
          <p:nvPr/>
        </p:nvPicPr>
        <p:blipFill>
          <a:blip r:embed="rId1"/>
          <a:stretch/>
        </p:blipFill>
        <p:spPr>
          <a:xfrm>
            <a:off x="792000" y="2352600"/>
            <a:ext cx="7285320" cy="2257560"/>
          </a:xfrm>
          <a:prstGeom prst="rect">
            <a:avLst/>
          </a:prstGeom>
          <a:ln w="0">
            <a:noFill/>
          </a:ln>
        </p:spPr>
      </p:pic>
      <p:pic>
        <p:nvPicPr>
          <p:cNvPr id="483" name="Picture 3" descr=""/>
          <p:cNvPicPr/>
          <p:nvPr/>
        </p:nvPicPr>
        <p:blipFill>
          <a:blip r:embed="rId2"/>
          <a:stretch/>
        </p:blipFill>
        <p:spPr>
          <a:xfrm>
            <a:off x="782640" y="4486320"/>
            <a:ext cx="7294680" cy="1685880"/>
          </a:xfrm>
          <a:prstGeom prst="rect">
            <a:avLst/>
          </a:prstGeom>
          <a:ln w="0">
            <a:noFill/>
          </a:ln>
        </p:spPr>
      </p:pic>
      <p:sp>
        <p:nvSpPr>
          <p:cNvPr id="484" name="TextBox 5"/>
          <p:cNvSpPr/>
          <p:nvPr/>
        </p:nvSpPr>
        <p:spPr>
          <a:xfrm>
            <a:off x="2087640" y="6248520"/>
            <a:ext cx="6904080" cy="3682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nc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p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gument i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u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host to device performance is tes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5" name="Straight Arrow Connector 6"/>
          <p:cNvCxnSpPr>
            <a:stCxn id="484" idx="0"/>
          </p:cNvCxnSpPr>
          <p:nvPr/>
        </p:nvCxnSpPr>
        <p:spPr>
          <a:xfrm flipV="1">
            <a:off x="5537880" y="4800240"/>
            <a:ext cx="100440" cy="144864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Calibri"/>
                <a:ea typeface="Calibri"/>
              </a:rPr>
              <a:t>Page-Locked Host Memory</a:t>
            </a:r>
            <a:endParaRPr b="1" lang="en-US" sz="36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487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Now measure device to host copy speed by repeating calls with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up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 argument set to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fal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8" name="Picture 2" descr=""/>
          <p:cNvPicPr/>
          <p:nvPr/>
        </p:nvPicPr>
        <p:blipFill>
          <a:blip r:embed="rId1"/>
          <a:stretch/>
        </p:blipFill>
        <p:spPr>
          <a:xfrm>
            <a:off x="923760" y="2809800"/>
            <a:ext cx="7294680" cy="1685880"/>
          </a:xfrm>
          <a:prstGeom prst="rect">
            <a:avLst/>
          </a:prstGeom>
          <a:ln w="0">
            <a:noFill/>
          </a:ln>
        </p:spPr>
      </p:pic>
      <p:sp>
        <p:nvSpPr>
          <p:cNvPr id="489" name="TextBox 5"/>
          <p:cNvSpPr/>
          <p:nvPr/>
        </p:nvSpPr>
        <p:spPr>
          <a:xfrm>
            <a:off x="2163600" y="4648320"/>
            <a:ext cx="6904080" cy="3682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nc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p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gument i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ls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device to host performance is tes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0" name="Straight Arrow Connector 5"/>
          <p:cNvCxnSpPr>
            <a:stCxn id="489" idx="0"/>
          </p:cNvCxnSpPr>
          <p:nvPr/>
        </p:nvCxnSpPr>
        <p:spPr>
          <a:xfrm flipV="1">
            <a:off x="5616360" y="3200040"/>
            <a:ext cx="99000" cy="144864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Calibri"/>
                <a:ea typeface="Calibri"/>
              </a:rPr>
              <a:t>Page-Locked Host Memory</a:t>
            </a:r>
            <a:endParaRPr b="1" lang="en-US" sz="36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Perform same tests using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cudaHostAlloc( )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once with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up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argument set to true and once set to fal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3" name="Picture 2" descr=""/>
          <p:cNvPicPr/>
          <p:nvPr/>
        </p:nvPicPr>
        <p:blipFill>
          <a:blip r:embed="rId1"/>
          <a:stretch/>
        </p:blipFill>
        <p:spPr>
          <a:xfrm>
            <a:off x="838080" y="2666880"/>
            <a:ext cx="7304040" cy="36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Calibri"/>
              </a:rPr>
              <a:t>Page-Locked Host Memory</a:t>
            </a:r>
            <a:endParaRPr b="1" lang="en-US" sz="39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495" name="Content Placeholder 2"/>
          <p:cNvSpPr/>
          <p:nvPr/>
        </p:nvSpPr>
        <p:spPr>
          <a:xfrm>
            <a:off x="457200" y="1981080"/>
            <a:ext cx="8534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ag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ectangle 3"/>
          <p:cNvSpPr/>
          <p:nvPr/>
        </p:nvSpPr>
        <p:spPr>
          <a:xfrm>
            <a:off x="838080" y="2743200"/>
            <a:ext cx="69343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7680" indent="-403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60093"/>
                </a:solidFill>
                <a:latin typeface="Courier New"/>
              </a:rPr>
              <a:t>cudaHostAlloc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) / </a:t>
            </a:r>
            <a:r>
              <a:rPr b="0" lang="en-US" sz="2400" spc="-1" strike="noStrike">
                <a:solidFill>
                  <a:srgbClr val="d60093"/>
                </a:solidFill>
                <a:latin typeface="Courier New"/>
              </a:rPr>
              <a:t>cudaMallocHos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7680" indent="-403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60093"/>
                </a:solidFill>
                <a:latin typeface="Courier New"/>
              </a:rPr>
              <a:t>cudaHostFre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7680" indent="-403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7680" indent="-403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60093"/>
                </a:solidFill>
                <a:latin typeface="Courier New"/>
              </a:rPr>
              <a:t>cudaMemcpyAsync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7680" indent="-403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7680" indent="-403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4"/>
          <p:cNvSpPr/>
          <p:nvPr/>
        </p:nvSpPr>
        <p:spPr>
          <a:xfrm>
            <a:off x="0" y="655308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3.2.5 in the NVIDIA CUDA C Programming Gui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Calibri"/>
              </a:rPr>
              <a:t>Page-Locked Host Memory</a:t>
            </a:r>
            <a:endParaRPr b="1" lang="en-US" sz="39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499" name=""/>
          <p:cNvSpPr txBox="1"/>
          <p:nvPr/>
        </p:nvSpPr>
        <p:spPr>
          <a:xfrm>
            <a:off x="457200" y="1981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hat’s the catch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age-locked memory is scarc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Allocations will start failing before allocation of in pageable memory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educes amount of physical memory available to the OS for pa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Allocating too much will hurt overall system performance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Calibri"/>
                <a:ea typeface="Calibri"/>
              </a:rPr>
              <a:t>CUDA graphics Interoperability</a:t>
            </a:r>
            <a:endParaRPr b="1" lang="en-US" sz="36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Consider a program tha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performs image processing calcul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Passes data to OpenGL to rend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First include header fi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CUDA interop header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uda_gl_interop.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Graphics header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GL/glut.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92280" indent="-347760">
              <a:lnSpc>
                <a:spcPct val="10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1" name="Picture 4" descr=""/>
          <p:cNvPicPr/>
          <p:nvPr/>
        </p:nvPicPr>
        <p:blipFill>
          <a:blip r:embed="rId1"/>
          <a:stretch/>
        </p:blipFill>
        <p:spPr>
          <a:xfrm>
            <a:off x="762120" y="4191120"/>
            <a:ext cx="7323120" cy="25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2T17:50:42Z</dcterms:created>
  <dc:creator>Emmanuel Agu</dc:creator>
  <dc:description/>
  <dc:language>en-US</dc:language>
  <cp:lastModifiedBy>emmanuel</cp:lastModifiedBy>
  <dcterms:modified xsi:type="dcterms:W3CDTF">2011-10-27T09:43:57Z</dcterms:modified>
  <cp:revision>710</cp:revision>
  <dc:subject/>
  <dc:title>General Purpose Computations on Graphics Processing Units (GPGPU) for</dc:title>
</cp:coreProperties>
</file>