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E1513C-8B67-43A8-A2F5-48B421C3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542428-2EC2-4F67-8F6F-753EF5FC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A7BCBF-3A22-45FF-A786-AFAC961B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14DA74-1A45-4866-9585-C447C181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A832DB-5998-43C4-BEDD-98153625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6DD2B5C-3B82-4920-BECB-D98D2E47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2B3-7291-473C-9C3D-578FFD35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28D-3BE9-4F48-9BD4-A74EBE9D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57D-5D4C-4214-851A-5906C6B0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CF0-5C4A-4350-85E0-7F038E12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0E7-2C6B-4998-ADBA-54D97523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DDB-F875-437B-8F39-A6BF9965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EA5-0B21-45A3-9B92-B06E88B4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8EB-C39E-4D02-9026-8C300BD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674F-3B0E-4468-AEAF-59757BE9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A9F3-9BCB-44E8-B651-0E71A12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C3E-47D7-4E42-A069-C20FAEF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CEA-096D-4239-8429-F561791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A53-4609-4613-8902-C3F86ED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2E6C-BAF0-48FF-8D7D-650938C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60B-1F88-4CE6-8AA7-5C794B1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67A1-318A-4F45-97C1-AD76B7F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7D8-79FB-4BF9-A7E9-67FEC558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373-F88E-46E6-876E-82600BB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1BD-2B67-4BF6-969A-E29CCE99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C15-4067-4901-AB64-2977366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7E3-4F40-4BE5-99F8-296FF966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470-3114-4753-AE4E-DF2E3E8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6D2-D382-4275-97F1-24424F3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F7A-9F0D-4F7E-BD56-0CCBBBB4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DE04-CD7F-42EC-915A-11F1811263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73C-A363-4AF6-B828-FE94EB184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S 525G – Lecture 6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Measuring Performance with Event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n fix this by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Synchronize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its  until completion of all device work preceding the most recent call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daEventRecord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_t start, stop;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declare the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Create (&amp;start);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Create start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Create (&amp;stop);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Create stop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Record(start, 0);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ecord start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( );            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un function to be tim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Record(stop, 0);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ecord stop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Synchronize( stop );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block till st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nd( x ) (x * rand() / RAND_MA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INF     2e10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pher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,b,g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adiu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x,y,z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float hit( float ox, float oy, float *n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x = ox - 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y = oy - 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x*dx + dy*dy &lt; radius*radius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z = sqrtf( radius*radius - dx*dx - dy*dy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n = dz / sqrtf( radius * radiu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z + z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-IN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4290120" y="5638680"/>
            <a:ext cx="3831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contains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 structure for the 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5"/>
          <p:cNvCxnSpPr>
            <a:stCxn id="209" idx="0"/>
          </p:cNvCxnSpPr>
          <p:nvPr/>
        </p:nvCxnSpPr>
        <p:spPr>
          <a:xfrm flipH="1" flipV="1">
            <a:off x="5257080" y="4723920"/>
            <a:ext cx="9486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PHERES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Sphere *s, unsigned char *ptr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threadIdx/BlockIdx to pixel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threadIdx.x + blockIdx.x * blockDim.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threadIdx.y + blockIdx.y * blockDim.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blockDim.x * gridDim.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ox = (x - DIM/2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oy = (y - DIM/2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637640" y="5562720"/>
            <a:ext cx="7289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will launch 1 thread per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each thread’s global ID (x,y) from its threadIdx and block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4"/>
          <p:cNvCxnSpPr>
            <a:stCxn id="213" idx="0"/>
          </p:cNvCxnSpPr>
          <p:nvPr/>
        </p:nvCxnSpPr>
        <p:spPr>
          <a:xfrm flipH="1" flipV="1">
            <a:off x="4342680" y="4114440"/>
            <a:ext cx="940680" cy="144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=0, g=0, b=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maxz = -IN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0; i&lt;SPHERES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t = s[i].hit( ox, oy, &amp;n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 &gt; maxz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scale =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s[i].r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s[i].g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[i].b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z = 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048120" y="5257800"/>
            <a:ext cx="5967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ay starting at eye position and go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pixel ox, oy, search through all spheres for valid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RGB color seen through pixel, best h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4"/>
          <p:cNvCxnSpPr>
            <a:stCxn id="217" idx="0"/>
          </p:cNvCxnSpPr>
          <p:nvPr/>
        </p:nvCxnSpPr>
        <p:spPr>
          <a:xfrm flipH="1" flipV="1">
            <a:off x="4343040" y="3352320"/>
            <a:ext cx="1689840" cy="1905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(int)(r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(int)(g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(int)(b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lobals needed by the update rout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DataBlock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         *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952880" y="3048120"/>
            <a:ext cx="3699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or seen through this pixel based on spher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4"/>
          <p:cNvCxnSpPr>
            <a:stCxn id="221" idx="0"/>
          </p:cNvCxnSpPr>
          <p:nvPr/>
        </p:nvCxnSpPr>
        <p:spPr>
          <a:xfrm flipH="1" flipV="1">
            <a:off x="5486400" y="2285280"/>
            <a:ext cx="13165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lock   dat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pture the start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udaEvent_t     start, sto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Create( &amp;star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Create( &amp;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Record( start, 0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PUBitmap bitmap( DIM, DIM, &amp;data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         *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519800" y="5105520"/>
            <a:ext cx="4563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nd create start, stop timer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4"/>
          <p:cNvCxnSpPr>
            <a:stCxn id="225" idx="0"/>
          </p:cNvCxnSpPr>
          <p:nvPr/>
        </p:nvCxnSpPr>
        <p:spPr>
          <a:xfrm flipH="1" flipV="1">
            <a:off x="5486400" y="4190760"/>
            <a:ext cx="131652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memory on GPU for the output bit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itma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memory for the Sphere data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Sphere) * SPHERES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emp memory, initialize it, copy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mory on the GPU, then free our temp mem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*temp_s = (Sphere*)malloc( sizeof(Spher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 SPHERE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444480" y="5638680"/>
            <a:ext cx="2658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memor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mage on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spheres on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spheres on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4"/>
          <p:cNvCxnSpPr>
            <a:stCxn id="229" idx="0"/>
          </p:cNvCxnSpPr>
          <p:nvPr/>
        </p:nvCxnSpPr>
        <p:spPr>
          <a:xfrm flipH="1" flipV="1">
            <a:off x="4419000" y="4723920"/>
            <a:ext cx="3546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PHERES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r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g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b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x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y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z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radius = rnd( 100.0f ) + 2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s, temp_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Sphere) * SPHERE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HostToDevice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464440" y="1981080"/>
            <a:ext cx="3428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andom RGB color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XYZ positions for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4"/>
          <p:cNvCxnSpPr/>
          <p:nvPr/>
        </p:nvCxnSpPr>
        <p:spPr>
          <a:xfrm flipH="1">
            <a:off x="4876560" y="2590560"/>
            <a:ext cx="59112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5" name="TextBox 3"/>
          <p:cNvSpPr/>
          <p:nvPr/>
        </p:nvSpPr>
        <p:spPr>
          <a:xfrm>
            <a:off x="4759200" y="6031080"/>
            <a:ext cx="369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Scene information to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7"/>
          <p:cNvCxnSpPr>
            <a:stCxn id="235" idx="0"/>
          </p:cNvCxnSpPr>
          <p:nvPr/>
        </p:nvCxnSpPr>
        <p:spPr>
          <a:xfrm flipH="1" flipV="1">
            <a:off x="5866920" y="5257440"/>
            <a:ext cx="742320" cy="774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2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temp_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// launch GPU kernel to generate a bitmap from our spher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grids(DIM/16,DIM/1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threads(16,1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grids,threads&gt;&gt;&gt;( s, dev_bitmap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// copy resulting bitmap back from the GPU for disp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bitmap.get_ptr(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bitma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y Tracing 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y tracing + Timer creating and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y tracing + Constant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idter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stop time, and display the timing resul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Record( stop, 0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Synchronize(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  elapsedTi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ElapsedTime(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elapsedTim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,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rintf( "Time to generate:  %3.1f ms\n",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elapsedTime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Destroy( star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Destroy(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893840" y="6324480"/>
            <a:ext cx="297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and rec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4"/>
          <p:cNvCxnSpPr>
            <a:stCxn id="241" idx="0"/>
          </p:cNvCxnSpPr>
          <p:nvPr/>
        </p:nvCxnSpPr>
        <p:spPr>
          <a:xfrm flipH="1" flipV="1">
            <a:off x="5790960" y="5486040"/>
            <a:ext cx="58968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Ray Tracer Performan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itma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s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// disp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display_and_exi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056120" y="3581280"/>
            <a:ext cx="2845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alloca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generated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"/>
          <p:cNvCxnSpPr>
            <a:stCxn id="245" idx="0"/>
          </p:cNvCxnSpPr>
          <p:nvPr/>
        </p:nvCxnSpPr>
        <p:spPr>
          <a:xfrm flipH="1" flipV="1">
            <a:off x="4799880" y="2590200"/>
            <a:ext cx="678600" cy="99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have looked at GPU programs that 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Glob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Share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w look at a third type of GPU memory called 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const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y constant mem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PU’s have so much ALU (math crunching abi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requently, GPU finishes number crunching very fas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ttleneck is usually CPU-GPU data trans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sentially, cannot get the data to the GPU quick en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tant memory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duce memory bandwid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The Device Memory Ecosystem</a:t>
            </a:r>
            <a:br>
              <a:rPr sz="3900"/>
            </a:br>
            <a:r>
              <a:rPr b="1" lang="en-US" sz="1800" spc="-1" strike="noStrike">
                <a:solidFill>
                  <a:srgbClr val="330066"/>
                </a:solidFill>
                <a:latin typeface="Calibri"/>
              </a:rPr>
              <a:t>[Quick Review] </a:t>
            </a:r>
            <a:endParaRPr b="1" lang="en-US" sz="18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4002-DD94-46A1-A9B3-0E029F4292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4495680" y="2068560"/>
            <a:ext cx="4556160" cy="2097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5029200" y="43228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ed only on devices of compute capability 2.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76320" y="1960560"/>
            <a:ext cx="4155840" cy="2314440"/>
            <a:chOff x="76320" y="1960560"/>
            <a:chExt cx="4155840" cy="2314440"/>
          </a:xfrm>
        </p:grpSpPr>
        <p:pic>
          <p:nvPicPr>
            <p:cNvPr id="254" name="Picture 2" descr=""/>
            <p:cNvPicPr/>
            <p:nvPr/>
          </p:nvPicPr>
          <p:blipFill>
            <a:blip r:embed="rId2"/>
            <a:stretch/>
          </p:blipFill>
          <p:spPr>
            <a:xfrm>
              <a:off x="76320" y="1960560"/>
              <a:ext cx="41558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5"/>
            <p:cNvSpPr/>
            <p:nvPr/>
          </p:nvSpPr>
          <p:spPr>
            <a:xfrm>
              <a:off x="2695680" y="2089080"/>
              <a:ext cx="380880" cy="19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7"/>
          <p:cNvSpPr/>
          <p:nvPr/>
        </p:nvSpPr>
        <p:spPr>
          <a:xfrm>
            <a:off x="2797560" y="43988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chip”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874440" y="45831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 chip”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eft Brace 8"/>
          <p:cNvSpPr/>
          <p:nvPr/>
        </p:nvSpPr>
        <p:spPr>
          <a:xfrm rot="16200000">
            <a:off x="3240720" y="3524400"/>
            <a:ext cx="344520" cy="1403280"/>
          </a:xfrm>
          <a:custGeom>
            <a:avLst/>
            <a:gdLst>
              <a:gd name="textAreaLeft" fmla="*/ 220320 w 344520"/>
              <a:gd name="textAreaRight" fmla="*/ 344880 w 344520"/>
              <a:gd name="textAreaTop" fmla="*/ 8640 h 1403280"/>
              <a:gd name="textAreaBottom" fmla="*/ 139464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9968"/>
                </a:lnTo>
                <a:cubicBezTo>
                  <a:pt x="10800" y="10189"/>
                  <a:pt x="5400" y="10410"/>
                  <a:pt x="0" y="10410"/>
                </a:cubicBezTo>
                <a:cubicBezTo>
                  <a:pt x="5400" y="10410"/>
                  <a:pt x="10800" y="10631"/>
                  <a:pt x="10800" y="1085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eft Brace 13"/>
          <p:cNvSpPr/>
          <p:nvPr/>
        </p:nvSpPr>
        <p:spPr>
          <a:xfrm rot="16200000">
            <a:off x="1519920" y="3600720"/>
            <a:ext cx="344520" cy="1403280"/>
          </a:xfrm>
          <a:custGeom>
            <a:avLst/>
            <a:gdLst>
              <a:gd name="textAreaLeft" fmla="*/ 220320 w 344520"/>
              <a:gd name="textAreaRight" fmla="*/ 344880 w 344520"/>
              <a:gd name="textAreaTop" fmla="*/ 8640 h 1403280"/>
              <a:gd name="textAreaBottom" fmla="*/ 139464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1"/>
                  <a:pt x="10800" y="442"/>
                </a:cubicBezTo>
                <a:lnTo>
                  <a:pt x="10800" y="9968"/>
                </a:lnTo>
                <a:cubicBezTo>
                  <a:pt x="10800" y="10189"/>
                  <a:pt x="5400" y="10410"/>
                  <a:pt x="0" y="10410"/>
                </a:cubicBezTo>
                <a:cubicBezTo>
                  <a:pt x="5400" y="10410"/>
                  <a:pt x="10800" y="10631"/>
                  <a:pt x="10800" y="10852"/>
                </a:cubicBezTo>
                <a:lnTo>
                  <a:pt x="10800" y="21158"/>
                </a:lnTo>
                <a:cubicBezTo>
                  <a:pt x="10800" y="213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memory used for data that will not change during a given execution of a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vidia GPUs provid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k of constant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reated differently from standard global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uations, constant memory instead of global memory reduces required memory band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when all threads use same *constant* value for  compu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some spring force constant, e=2.7173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 are stored in DRAM but cached on c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is a limited amount of L1 cache per 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ght run into slow access if for example have a large number of constants used to compute some complicated formula (might overflow the cach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nstant value can be broadcast to all thread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ly efficient way of accessing a value that is common for all threads in a Block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ll threads in a warp read the same constant memory address this is as fast as a regi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6877080" y="1838160"/>
            <a:ext cx="20383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7253280" y="3338640"/>
            <a:ext cx="163980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7253280" y="3338640"/>
            <a:ext cx="1639800" cy="546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3520" y="1860480"/>
            <a:ext cx="15793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7283520" y="1860480"/>
            <a:ext cx="1579320" cy="438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8007120" y="1911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8052480" y="1911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7989120" y="2084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8070120" y="2084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7283520" y="2627280"/>
            <a:ext cx="1579320" cy="43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7283520" y="2627280"/>
            <a:ext cx="1579320" cy="436680"/>
          </a:xfrm>
          <a:prstGeom prst="rect">
            <a:avLst/>
          </a:prstGeom>
          <a:solidFill>
            <a:srgbClr val="ffffff"/>
          </a:solidFill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7630200" y="26780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threa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521480" y="2851200"/>
            <a:ext cx="11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7464600" y="3392640"/>
            <a:ext cx="182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7334280" y="3392640"/>
            <a:ext cx="685800" cy="438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7632360" y="34797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7641720" y="360684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8072280" y="3392640"/>
            <a:ext cx="36540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8072280" y="3392640"/>
            <a:ext cx="365400" cy="438120"/>
          </a:xfrm>
          <a:prstGeom prst="rect">
            <a:avLst/>
          </a:prstGeom>
          <a:solidFill>
            <a:srgbClr val="669999"/>
          </a:solidFill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8180280" y="34797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8262360" y="34797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8190000" y="360684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6"/>
          <p:cNvSpPr/>
          <p:nvPr/>
        </p:nvSpPr>
        <p:spPr>
          <a:xfrm>
            <a:off x="8253000" y="3606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7"/>
          <p:cNvSpPr/>
          <p:nvPr/>
        </p:nvSpPr>
        <p:spPr>
          <a:xfrm>
            <a:off x="8497800" y="3392640"/>
            <a:ext cx="3650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8497800" y="3392640"/>
            <a:ext cx="365040" cy="438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8506080" y="34797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8555040" y="360684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1"/>
          <p:cNvSpPr/>
          <p:nvPr/>
        </p:nvSpPr>
        <p:spPr>
          <a:xfrm>
            <a:off x="7283520" y="4049640"/>
            <a:ext cx="1579320" cy="4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7283520" y="4049640"/>
            <a:ext cx="1579320" cy="43668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7558560" y="4181400"/>
            <a:ext cx="106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nd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7283520" y="4815000"/>
            <a:ext cx="7286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5"/>
          <p:cNvSpPr/>
          <p:nvPr/>
        </p:nvSpPr>
        <p:spPr>
          <a:xfrm>
            <a:off x="7283520" y="4815000"/>
            <a:ext cx="728640" cy="438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7488000" y="494820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7"/>
          <p:cNvSpPr/>
          <p:nvPr/>
        </p:nvSpPr>
        <p:spPr>
          <a:xfrm>
            <a:off x="8134200" y="4815000"/>
            <a:ext cx="7286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8"/>
          <p:cNvSpPr/>
          <p:nvPr/>
        </p:nvSpPr>
        <p:spPr>
          <a:xfrm>
            <a:off x="8134200" y="4815000"/>
            <a:ext cx="728640" cy="438120"/>
          </a:xfrm>
          <a:prstGeom prst="rect">
            <a:avLst/>
          </a:pr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8353080" y="4948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0"/>
          <p:cNvSpPr/>
          <p:nvPr/>
        </p:nvSpPr>
        <p:spPr>
          <a:xfrm>
            <a:off x="8072280" y="3063960"/>
            <a:ext cx="1800" cy="21420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1"/>
          <p:cNvSpPr/>
          <p:nvPr/>
        </p:nvSpPr>
        <p:spPr>
          <a:xfrm>
            <a:off x="8034480" y="3259080"/>
            <a:ext cx="77760" cy="79560"/>
          </a:xfrm>
          <a:custGeom>
            <a:avLst/>
            <a:gdLst>
              <a:gd name="textAreaLeft" fmla="*/ 0 w 77760"/>
              <a:gd name="textAreaRight" fmla="*/ 78120 w 77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2"/>
          <p:cNvSpPr/>
          <p:nvPr/>
        </p:nvSpPr>
        <p:spPr>
          <a:xfrm>
            <a:off x="7647120" y="4486320"/>
            <a:ext cx="1440" cy="26820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3"/>
          <p:cNvSpPr/>
          <p:nvPr/>
        </p:nvSpPr>
        <p:spPr>
          <a:xfrm>
            <a:off x="7607160" y="4735440"/>
            <a:ext cx="79560" cy="79560"/>
          </a:xfrm>
          <a:custGeom>
            <a:avLst/>
            <a:gdLst>
              <a:gd name="textAreaLeft" fmla="*/ 0 w 79560"/>
              <a:gd name="textAreaRight" fmla="*/ 79920 w 795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4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4"/>
          <p:cNvSpPr/>
          <p:nvPr/>
        </p:nvSpPr>
        <p:spPr>
          <a:xfrm>
            <a:off x="8072280" y="2298600"/>
            <a:ext cx="1800" cy="26856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5"/>
          <p:cNvSpPr/>
          <p:nvPr/>
        </p:nvSpPr>
        <p:spPr>
          <a:xfrm>
            <a:off x="8034480" y="2548080"/>
            <a:ext cx="77760" cy="79200"/>
          </a:xfrm>
          <a:custGeom>
            <a:avLst/>
            <a:gdLst>
              <a:gd name="textAreaLeft" fmla="*/ 0 w 77760"/>
              <a:gd name="textAreaRight" fmla="*/ 78120 w 77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6"/>
          <p:cNvSpPr/>
          <p:nvPr/>
        </p:nvSpPr>
        <p:spPr>
          <a:xfrm>
            <a:off x="7647120" y="5253120"/>
            <a:ext cx="1440" cy="15876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7"/>
          <p:cNvSpPr/>
          <p:nvPr/>
        </p:nvSpPr>
        <p:spPr>
          <a:xfrm>
            <a:off x="7607160" y="5392800"/>
            <a:ext cx="79560" cy="77760"/>
          </a:xfrm>
          <a:custGeom>
            <a:avLst/>
            <a:gdLst>
              <a:gd name="textAreaLeft" fmla="*/ 0 w 79560"/>
              <a:gd name="textAreaRight" fmla="*/ 79920 w 79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4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8"/>
          <p:cNvSpPr/>
          <p:nvPr/>
        </p:nvSpPr>
        <p:spPr>
          <a:xfrm>
            <a:off x="8497800" y="5253120"/>
            <a:ext cx="1800" cy="37764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9"/>
          <p:cNvSpPr/>
          <p:nvPr/>
        </p:nvSpPr>
        <p:spPr>
          <a:xfrm>
            <a:off x="8459640" y="5611680"/>
            <a:ext cx="77760" cy="77760"/>
          </a:xfrm>
          <a:custGeom>
            <a:avLst/>
            <a:gdLst>
              <a:gd name="textAreaLeft" fmla="*/ 0 w 77760"/>
              <a:gd name="textAreaRight" fmla="*/ 78120 w 777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4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0"/>
          <p:cNvSpPr/>
          <p:nvPr/>
        </p:nvSpPr>
        <p:spPr>
          <a:xfrm>
            <a:off x="8497800" y="4486320"/>
            <a:ext cx="1800" cy="26820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51"/>
          <p:cNvSpPr/>
          <p:nvPr/>
        </p:nvSpPr>
        <p:spPr>
          <a:xfrm>
            <a:off x="8459640" y="4735440"/>
            <a:ext cx="77760" cy="79560"/>
          </a:xfrm>
          <a:custGeom>
            <a:avLst/>
            <a:gdLst>
              <a:gd name="textAreaLeft" fmla="*/ 0 w 77760"/>
              <a:gd name="textAreaRight" fmla="*/ 78120 w 77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4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2"/>
          <p:cNvSpPr/>
          <p:nvPr/>
        </p:nvSpPr>
        <p:spPr>
          <a:xfrm>
            <a:off x="8680320" y="3830760"/>
            <a:ext cx="1800" cy="15876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3"/>
          <p:cNvSpPr/>
          <p:nvPr/>
        </p:nvSpPr>
        <p:spPr>
          <a:xfrm>
            <a:off x="8642520" y="3970440"/>
            <a:ext cx="77760" cy="79200"/>
          </a:xfrm>
          <a:custGeom>
            <a:avLst/>
            <a:gdLst>
              <a:gd name="textAreaLeft" fmla="*/ 0 w 77760"/>
              <a:gd name="textAreaRight" fmla="*/ 78120 w 77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4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4"/>
          <p:cNvSpPr/>
          <p:nvPr/>
        </p:nvSpPr>
        <p:spPr>
          <a:xfrm>
            <a:off x="7707240" y="360684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5"/>
          <p:cNvSpPr/>
          <p:nvPr/>
        </p:nvSpPr>
        <p:spPr>
          <a:xfrm>
            <a:off x="7556400" y="3830760"/>
            <a:ext cx="1800" cy="15876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56"/>
          <p:cNvSpPr/>
          <p:nvPr/>
        </p:nvSpPr>
        <p:spPr>
          <a:xfrm>
            <a:off x="7516800" y="397044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4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8255160" y="3830760"/>
            <a:ext cx="1440" cy="158760"/>
          </a:xfrm>
          <a:prstGeom prst="line">
            <a:avLst/>
          </a:prstGeom>
          <a:ln cap="rnd"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8"/>
          <p:cNvSpPr/>
          <p:nvPr/>
        </p:nvSpPr>
        <p:spPr>
          <a:xfrm>
            <a:off x="8215200" y="397044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69" y="138"/>
                </a:moveTo>
                <a:lnTo>
                  <a:pt x="0" y="0"/>
                </a:lnTo>
                <a:cubicBezTo>
                  <a:pt x="43" y="21"/>
                  <a:pt x="95" y="21"/>
                  <a:pt x="138" y="0"/>
                </a:cubicBezTo>
                <a:lnTo>
                  <a:pt x="69" y="138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9"/>
          <p:cNvSpPr/>
          <p:nvPr/>
        </p:nvSpPr>
        <p:spPr>
          <a:xfrm>
            <a:off x="7088040" y="3611520"/>
            <a:ext cx="559080" cy="1859040"/>
          </a:xfrm>
          <a:custGeom>
            <a:avLst/>
            <a:gdLst>
              <a:gd name="textAreaLeft" fmla="*/ 0 w 559080"/>
              <a:gd name="textAreaRight" fmla="*/ 559440 w 55908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352" h="1171">
                <a:moveTo>
                  <a:pt x="352" y="1171"/>
                </a:moveTo>
                <a:lnTo>
                  <a:pt x="0" y="1171"/>
                </a:lnTo>
                <a:lnTo>
                  <a:pt x="0" y="0"/>
                </a:lnTo>
                <a:lnTo>
                  <a:pt x="85" y="0"/>
                </a:lnTo>
              </a:path>
            </a:pathLst>
          </a:cu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0"/>
          <p:cNvSpPr/>
          <p:nvPr/>
        </p:nvSpPr>
        <p:spPr>
          <a:xfrm>
            <a:off x="7203960" y="357192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138" y="69"/>
                </a:moveTo>
                <a:lnTo>
                  <a:pt x="0" y="138"/>
                </a:lnTo>
                <a:cubicBezTo>
                  <a:pt x="22" y="94"/>
                  <a:pt x="22" y="43"/>
                  <a:pt x="0" y="0"/>
                </a:cubicBezTo>
                <a:lnTo>
                  <a:pt x="138" y="69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1"/>
          <p:cNvSpPr/>
          <p:nvPr/>
        </p:nvSpPr>
        <p:spPr>
          <a:xfrm>
            <a:off x="6978600" y="3502080"/>
            <a:ext cx="1519200" cy="218736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2187360"/>
              <a:gd name="textAreaBottom" fmla="*/ 2187720 h 2187360"/>
            </a:gdLst>
            <a:ahLst/>
            <a:rect l="textAreaLeft" t="textAreaTop" r="textAreaRight" b="textAreaBottom"/>
            <a:pathLst>
              <a:path w="957" h="1378">
                <a:moveTo>
                  <a:pt x="957" y="1378"/>
                </a:moveTo>
                <a:lnTo>
                  <a:pt x="0" y="1378"/>
                </a:lnTo>
                <a:lnTo>
                  <a:pt x="0" y="0"/>
                </a:lnTo>
                <a:lnTo>
                  <a:pt x="154" y="0"/>
                </a:lnTo>
              </a:path>
            </a:pathLst>
          </a:custGeom>
          <a:noFill/>
          <a:ln cap="rnd" w="7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2"/>
          <p:cNvSpPr/>
          <p:nvPr/>
        </p:nvSpPr>
        <p:spPr>
          <a:xfrm>
            <a:off x="7203960" y="346248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38" h="138">
                <a:moveTo>
                  <a:pt x="138" y="69"/>
                </a:moveTo>
                <a:lnTo>
                  <a:pt x="0" y="138"/>
                </a:lnTo>
                <a:cubicBezTo>
                  <a:pt x="22" y="94"/>
                  <a:pt x="22" y="43"/>
                  <a:pt x="0" y="0"/>
                </a:cubicBezTo>
                <a:lnTo>
                  <a:pt x="138" y="69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3"/>
          <p:cNvSpPr/>
          <p:nvPr/>
        </p:nvSpPr>
        <p:spPr>
          <a:xfrm>
            <a:off x="8381880" y="640080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F618-FFC1-45E2-9B08-5242F24B370D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Calibri"/>
              </a:rPr>
              <a:t>Example, Use of Constant Memory</a:t>
            </a:r>
            <a:br>
              <a:rPr sz="2800"/>
            </a:b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[For compute capability 2.0 (GTX480, C2050) – due to use of “printf”]</a:t>
            </a:r>
            <a:endParaRPr b="1" lang="en-US" sz="14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1295280"/>
            <a:ext cx="6781680" cy="52045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Declare the constant device variable outside the body of an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device__ __constant__ float dansP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Some dummy function that uses the constan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global__ void myExampl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at circum = 2.f*dansPI*threadIdx.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f("Hello thread %d, Circ=%5.2f\n", threadIdx.x, circum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at somePI = 3.141579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MemcpyToSymbol(dansPI, &amp;somePI, sizeof(floa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Example&lt;&lt;&lt;1, 16&gt;&gt;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ThreadSynchroniz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28600" y="640080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2D2-2101-41EA-A205-E64C50DE0FCC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7086600" y="2514600"/>
            <a:ext cx="2057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0, Circ= 0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, Circ= 6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2, Circ=12.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3, Circ=18.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4, Circ=25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5, Circ=31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6, Circ=37.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7, Circ=43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8, Circ=50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9, Circ=56.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0, Circ=62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1, Circ=69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2, Circ=75.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3, Circ=81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4, Circ=87.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thread 15, Circ=94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 flipH="1">
            <a:off x="3809880" y="5410080"/>
            <a:ext cx="99072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4386240" y="2994120"/>
            <a:ext cx="4781520" cy="36925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ray tracing scene be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cene is static (objects don’t move e.g sphe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here geometry and position don’t change while kernel execu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Sphere a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7016040" y="3578400"/>
            <a:ext cx="1982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here doesn’t 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e it in consta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5"/>
          <p:cNvCxnSpPr/>
          <p:nvPr/>
        </p:nvCxnSpPr>
        <p:spPr>
          <a:xfrm flipH="1">
            <a:off x="7745040" y="4101840"/>
            <a:ext cx="262800" cy="100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352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nel produces output image as its 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location that stores stores output image would be written to (changed) by ker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image i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good candidate for constant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4330800" y="3165480"/>
            <a:ext cx="4781520" cy="36925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914400" y="4665600"/>
            <a:ext cx="2971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image changed by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 not put it in constant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5"/>
          <p:cNvCxnSpPr>
            <a:stCxn id="337" idx="3"/>
          </p:cNvCxnSpPr>
          <p:nvPr/>
        </p:nvCxnSpPr>
        <p:spPr>
          <a:xfrm flipV="1">
            <a:off x="3886200" y="4920480"/>
            <a:ext cx="838800" cy="5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viously declared array of Spheres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*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modifi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__const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declare sphere as 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__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s[SPHERES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ommit to a size/value of sphere at compil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no longer need to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allo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ing Intro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gorithm that generates nice 2D image of 3D scene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305080" y="2286000"/>
            <a:ext cx="5391000" cy="4162320"/>
          </a:xfrm>
          <a:prstGeom prst="rect">
            <a:avLst/>
          </a:prstGeom>
          <a:ln w="0">
            <a:noFill/>
          </a:ln>
        </p:spPr>
      </p:pic>
      <p:sp>
        <p:nvSpPr>
          <p:cNvPr id="163" name="Smiley Face 4"/>
          <p:cNvSpPr/>
          <p:nvPr/>
        </p:nvSpPr>
        <p:spPr>
          <a:xfrm>
            <a:off x="685800" y="30481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5"/>
          <p:cNvCxnSpPr/>
          <p:nvPr/>
        </p:nvCxnSpPr>
        <p:spPr>
          <a:xfrm flipV="1">
            <a:off x="685440" y="3428280"/>
            <a:ext cx="15300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TextBox 6"/>
          <p:cNvSpPr/>
          <p:nvPr/>
        </p:nvSpPr>
        <p:spPr>
          <a:xfrm>
            <a:off x="384840" y="411480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y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ne more change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special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udaMemcpyToSymb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to copy CPU data to constant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MemcpyToSymbol( s, temp_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izeof(Sphere) * SPHERES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6"/>
          <p:cNvSpPr/>
          <p:nvPr/>
        </p:nvSpPr>
        <p:spPr>
          <a:xfrm>
            <a:off x="4114800" y="6016680"/>
            <a:ext cx="3048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 in bytes of constants to 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Straight Arrow Connector 5"/>
          <p:cNvCxnSpPr>
            <a:stCxn id="343" idx="0"/>
          </p:cNvCxnSpPr>
          <p:nvPr/>
        </p:nvCxnSpPr>
        <p:spPr>
          <a:xfrm flipH="1" flipV="1">
            <a:off x="5590800" y="5330160"/>
            <a:ext cx="4824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TextBox 6"/>
          <p:cNvSpPr/>
          <p:nvPr/>
        </p:nvSpPr>
        <p:spPr>
          <a:xfrm>
            <a:off x="4038480" y="3989520"/>
            <a:ext cx="2354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ymbol destination on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7"/>
          <p:cNvCxnSpPr/>
          <p:nvPr/>
        </p:nvCxnSpPr>
        <p:spPr>
          <a:xfrm>
            <a:off x="5154480" y="4297320"/>
            <a:ext cx="705240" cy="378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TextBox 6"/>
          <p:cNvSpPr/>
          <p:nvPr/>
        </p:nvSpPr>
        <p:spPr>
          <a:xfrm>
            <a:off x="6781680" y="3989520"/>
            <a:ext cx="1981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9"/>
          <p:cNvCxnSpPr>
            <a:stCxn id="347" idx="2"/>
          </p:cNvCxnSpPr>
          <p:nvPr/>
        </p:nvCxnSpPr>
        <p:spPr>
          <a:xfrm flipH="1">
            <a:off x="7162200" y="4297320"/>
            <a:ext cx="610200" cy="427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Performance of 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claring memory a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kes it read-only (cannot chan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all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reads are run on the GPU hardware in batches of 32 called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ach threads in a warp execut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ame instru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ffer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wo performance implications of constant memo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 single read from constant memory by a given thread is broadcast to all other threads in the same warp (Saves potential reads by other threads an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aves 94% of memory traffic compared to global memo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tant memory is cached, so consecutive reads of same address incurs no additional memory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Calibri"/>
              </a:rPr>
              <a:t>Performance of Constant Memor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idering ray tracer aga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very thread reads spher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irst thread generates memory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ther threads in same warp generate no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free lunch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side of constant mem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s traffic when all threads read data at same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s traffic when all threads rea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fferent address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cache mi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nd( x ) (x * rand() / RAND_MA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INF     2e10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2280" y="1719360"/>
            <a:ext cx="883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pher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,b,g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adiu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x,y,z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float hit( float ox, float oy, float *n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x = ox - 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y = oy - 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x*dx + dy*dy &lt; radius*radius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z = sqrtf( radius*radius - dx*dx - dy*dy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n = dz / sqrtf( radius * radiu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z + z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-IN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PHERES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constant__ Sphere s[SPHERES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unsigned char *ptr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threadIdx/BlockIdx to pixel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threadIdx.x + blockIdx.x * blockDim.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threadIdx.y + blockIdx.y * blockDim.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blockDim.x * gridDim.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ox = (x - DIM/2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oy = (y - DIM/2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=0, g=0, b=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maxz = -IN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0; i&lt;SPHERES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t = s[i].hit( ox, oy, &amp;n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 &gt; maxz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scale = 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s[i].r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s[i].g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[i].b * fsca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z = 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(int)(r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(int)(g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(int)(b * 255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lobals needed by the update rout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DataBlock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lock   dat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pture the start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udaEvent_t     start, sto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Create( &amp;star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Create( &amp;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Record( start, 0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PUBitmap bitmap( DIM, DIM, &amp;data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memory on GPU for output bit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itma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emp memory, initialize it, copy to const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mory on the GPU, then free our temp mem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 *temp_s = (Sphere*)malloc( sizeof(Sphere) * SPHERE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ing Intro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agine eye looks through virtual scene into virtual 3D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t ray from eye to objects. What does eye see through each pixe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86000" y="2755800"/>
            <a:ext cx="4781520" cy="3692520"/>
          </a:xfrm>
          <a:prstGeom prst="rect">
            <a:avLst/>
          </a:prstGeom>
          <a:ln w="0">
            <a:noFill/>
          </a:ln>
        </p:spPr>
      </p:pic>
      <p:sp>
        <p:nvSpPr>
          <p:cNvPr id="169" name="Smiley Face 5"/>
          <p:cNvSpPr/>
          <p:nvPr/>
        </p:nvSpPr>
        <p:spPr>
          <a:xfrm>
            <a:off x="685800" y="33526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7"/>
          <p:cNvCxnSpPr/>
          <p:nvPr/>
        </p:nvCxnSpPr>
        <p:spPr>
          <a:xfrm flipV="1">
            <a:off x="685440" y="3733200"/>
            <a:ext cx="15300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1" name="TextBox 8"/>
          <p:cNvSpPr/>
          <p:nvPr/>
        </p:nvSpPr>
        <p:spPr>
          <a:xfrm>
            <a:off x="384840" y="4419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y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PHERES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r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g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b = rnd( 1.0f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x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y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z = rnd( 1000.0f ) - 50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_s[i].radius = rnd( 100.0f ) + 2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MemcpyToSymbol( s, temp_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zeof(Sphere) * SPHERES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temp_s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nerate a bitmap from our spher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grids(DIM/16,DIM/1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threads(16,1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grids,threads&gt;&gt;&gt;( dev_bitmap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our bitmap back from the GPU for disp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bitmap.get_ptr(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bitmap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stop time, and display the timing resul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Record( stop, 0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Synchronize(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  elapsedTi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ElapsedTime(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elapsedTime,start,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rintf( "Time to generate:  %3.1f ms\n",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lapsedTime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Destroy( start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_ERROR( cudaEventDestroy( sto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with Constant Memory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itmap )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sp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display_and_exi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Ray Tracer Screenshot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ple image generated by ray tra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scene: Made up of only sphe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449440" y="2590920"/>
            <a:ext cx="39070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Measuring Performance with Event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determine how fast or slow GPU code works, need to time exe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PU timers, measures time on CPU, 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fer time to-from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S thread schedu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rrors due to precision of timers on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verheads caused by jobs run simultaneously on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 timers on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PI is suitable for timing GPU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2549520" y="4049640"/>
            <a:ext cx="3886200" cy="1314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Measuring Performance with Event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wo main steps to use CUDA event API for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57200">
              <a:spcBef>
                <a:spcPts val="49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clare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57200">
              <a:spcBef>
                <a:spcPts val="49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reate an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57200">
              <a:spcBef>
                <a:spcPts val="499"/>
              </a:spcBef>
              <a:buClr>
                <a:srgbClr val="669999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cord an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claring, creating and recording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4787640" y="6031080"/>
            <a:ext cx="364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second argument 0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5"/>
          <p:cNvCxnSpPr>
            <a:stCxn id="180" idx="0"/>
          </p:cNvCxnSpPr>
          <p:nvPr/>
        </p:nvCxnSpPr>
        <p:spPr>
          <a:xfrm flipH="1" flipV="1">
            <a:off x="5749560" y="5116320"/>
            <a:ext cx="85968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Box 3"/>
          <p:cNvSpPr/>
          <p:nvPr/>
        </p:nvSpPr>
        <p:spPr>
          <a:xfrm>
            <a:off x="750240" y="5116680"/>
            <a:ext cx="174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re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7"/>
          <p:cNvCxnSpPr>
            <a:stCxn id="182" idx="3"/>
          </p:cNvCxnSpPr>
          <p:nvPr/>
        </p:nvCxnSpPr>
        <p:spPr>
          <a:xfrm flipV="1">
            <a:off x="2501640" y="4811400"/>
            <a:ext cx="353160" cy="491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4" name="TextBox 3"/>
          <p:cNvSpPr/>
          <p:nvPr/>
        </p:nvSpPr>
        <p:spPr>
          <a:xfrm>
            <a:off x="732240" y="4278240"/>
            <a:ext cx="184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clar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9"/>
          <p:cNvCxnSpPr>
            <a:stCxn id="184" idx="3"/>
          </p:cNvCxnSpPr>
          <p:nvPr/>
        </p:nvCxnSpPr>
        <p:spPr>
          <a:xfrm flipV="1">
            <a:off x="2585880" y="4430520"/>
            <a:ext cx="269280" cy="3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6" name="TextBox 3"/>
          <p:cNvSpPr/>
          <p:nvPr/>
        </p:nvSpPr>
        <p:spPr>
          <a:xfrm>
            <a:off x="2179080" y="6107040"/>
            <a:ext cx="1791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cor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15"/>
          <p:cNvCxnSpPr>
            <a:stCxn id="186" idx="0"/>
          </p:cNvCxnSpPr>
          <p:nvPr/>
        </p:nvCxnSpPr>
        <p:spPr>
          <a:xfrm flipV="1">
            <a:off x="3074760" y="5192280"/>
            <a:ext cx="846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Measuring Performance with Event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uming we would like to measure the execution time of a funct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o(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at runs on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_t start, stop;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declare the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Create (&amp;start);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Create start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Create (&amp;stop);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Create stop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Record(start, 0);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ecord start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( );              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un function to be tim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Record(stop, 0);   </a:t>
            </a:r>
            <a:r>
              <a:rPr b="1" lang="en-US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// record stop ev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Calibri"/>
              </a:rPr>
              <a:t>Measuring Performance with Event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me CUDA calls ar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ynchron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and returns (non-blocking), but completes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tion time not determinis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and actually put on a queue of pending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 cal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EventRecor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y not record until all jobs before it have comple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743200" y="4267080"/>
            <a:ext cx="609480" cy="2286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743200" y="4572000"/>
            <a:ext cx="609480" cy="2286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743200" y="4876920"/>
            <a:ext cx="609480" cy="2286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743200" y="5486400"/>
            <a:ext cx="609480" cy="228600"/>
          </a:xfrm>
          <a:prstGeom prst="rect">
            <a:avLst/>
          </a:prstGeom>
          <a:solidFill>
            <a:srgbClr val="00b0f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495680" y="465948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 ahead of timed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3"/>
          <p:cNvCxnSpPr>
            <a:stCxn id="197" idx="1"/>
          </p:cNvCxnSpPr>
          <p:nvPr/>
        </p:nvCxnSpPr>
        <p:spPr>
          <a:xfrm flipH="1">
            <a:off x="3428280" y="4844880"/>
            <a:ext cx="1067400" cy="43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TextBox 3"/>
          <p:cNvSpPr/>
          <p:nvPr/>
        </p:nvSpPr>
        <p:spPr>
          <a:xfrm>
            <a:off x="4495680" y="534528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18"/>
          <p:cNvCxnSpPr>
            <a:stCxn id="199" idx="1"/>
          </p:cNvCxnSpPr>
          <p:nvPr/>
        </p:nvCxnSpPr>
        <p:spPr>
          <a:xfrm flipH="1">
            <a:off x="3428280" y="5530680"/>
            <a:ext cx="1067400" cy="43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1" name="TextBox 3"/>
          <p:cNvSpPr/>
          <p:nvPr/>
        </p:nvSpPr>
        <p:spPr>
          <a:xfrm>
            <a:off x="4572000" y="41148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 of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traight Arrow Connector 23"/>
          <p:cNvCxnSpPr>
            <a:stCxn id="201" idx="1"/>
          </p:cNvCxnSpPr>
          <p:nvPr/>
        </p:nvCxnSpPr>
        <p:spPr>
          <a:xfrm flipH="1">
            <a:off x="3504600" y="4298760"/>
            <a:ext cx="1067400" cy="45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10-19T23:08:33Z</dcterms:modified>
  <cp:revision>566</cp:revision>
  <dc:subject/>
  <dc:title>General Purpose Computations on Graphics Processing Units (GPGPU) for</dc:title>
</cp:coreProperties>
</file>