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B2D25-2907-41FC-A7EE-6E53E1836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4DC92-80F0-4527-98F7-576CEF422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CBC36-2E59-48C5-B625-ABCA56144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9B7D5-75B0-4C92-8C91-E20E048E8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2FBB4-D189-4865-BE39-B202C0249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38553-FAB8-4F3D-9DAE-FBA032665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FA935-4E09-4A2C-9427-9DE7AAAEA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27F68-52F9-479B-8385-E90C4EE07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A1C65-015C-4D20-9207-78F22BD05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577F6-0D1C-438E-AAFC-6889A316C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0FABC-3EE9-485E-95BE-C00E86518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E2A30-1100-4C15-AFAF-1AE2E251D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8070-0095-4F9B-850B-0F4780A360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ools We used for Mining</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ining Toolkit: Wek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ng Method: associate rule: PAR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ote R code to do preprocessing and use R interface to invoke Weka func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10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imes New Roman"/>
              </a:rPr>
              <a:t>Thank You for Your Atten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sociation Rules</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sociation rule is a rule which implies certain association relationships among a set of objects (such as “occur together” or “one implies the other”) in a databas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uitive meaning of such a rule is that transactions of the database which contain X tend to contain Y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 Example</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218960"/>
            <a:ext cx="7772400" cy="2361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 of an association rule is: ``75% of transactions that contain diapers also contain beer; 37.5% of all transactions contain both of these items''. Here 75% is called the confidence of the rule, and 37.5% is called the support of the rul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7" name="Picture 4" descr="E:\2004_CIS600\AssociationRules.jpg"/>
          <p:cNvPicPr/>
          <p:nvPr/>
        </p:nvPicPr>
        <p:blipFill>
          <a:blip r:embed="rId1"/>
          <a:stretch/>
        </p:blipFill>
        <p:spPr>
          <a:xfrm>
            <a:off x="838080" y="4724280"/>
            <a:ext cx="7010640" cy="1495440"/>
          </a:xfrm>
          <a:prstGeom prst="rect">
            <a:avLst/>
          </a:prstGeom>
          <a:ln w="0">
            <a:noFill/>
          </a:ln>
        </p:spPr>
      </p:pic>
      <p:pic>
        <p:nvPicPr>
          <p:cNvPr id="48" name="Picture 5" descr=""/>
          <p:cNvPicPr/>
          <p:nvPr/>
        </p:nvPicPr>
        <p:blipFill>
          <a:blip r:embed="rId2"/>
          <a:stretch/>
        </p:blipFill>
        <p:spPr>
          <a:xfrm>
            <a:off x="2438280" y="3505320"/>
            <a:ext cx="449604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Approach</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association rules classifier PART which is a rule generator that uses J48 (C4.5)  to generate pruned decision trees from which rules are extracted. PART is in the Weka software package and is applicable for categorical classification and prediction. Input attributes can be categorical or numerica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the dataset comes from</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ELEC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USTOMER C,ITEMS I,WINE 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C.CUST_ID = I.CUST_ID AND I.WINE_ID = W.WINE_I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nually delete some no useful attributes and duplicate transactions from the output of this query, next we put the attribute that must exist to be the last column as target attribu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f you want to find some rules like the people living in which place like what type of wine, you can put the wine_type as the targe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ted Rules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219320"/>
            <a:ext cx="7772400" cy="4495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Y &lt;= 3 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 QLD: Red (46.0/35.0)</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 VIC: Red (138.0/99.0)</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 WA: Sparkling (111.0/77.0)</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Y &lt;= 1 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 QLD 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gt; 8.84: Sparkling (72.0/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explain these rule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19320"/>
            <a:ext cx="7772400" cy="449568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QTY &lt;= 3 AND</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 QLD: Red (46.0/35.0)</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TATE = VIC: Red (138.0/99.0)</a:t>
            </a:r>
            <a:endParaRPr b="0" lang="en-US" sz="24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xplain: 1.if one person living in </a:t>
            </a:r>
            <a:r>
              <a:rPr b="0" lang="en-US" sz="2800" spc="-1" strike="noStrike">
                <a:solidFill>
                  <a:srgbClr val="000000"/>
                </a:solidFill>
                <a:latin typeface="Times New Roman"/>
              </a:rPr>
              <a:t>STATE = QLD </a:t>
            </a:r>
            <a:r>
              <a:rPr b="0" lang="en-US" sz="2800" spc="-1" strike="noStrike">
                <a:solidFill>
                  <a:srgbClr val="000000"/>
                </a:solidFill>
                <a:latin typeface="宋体"/>
              </a:rPr>
              <a:t>, he may like Red Wine of QTY&lt;=3.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if one person living in STATE = VIC, he may like to buy red wine.</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The numerical values in parentheses tell us that how many instances satisfy the rule and how many instances do not in the training se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Work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219320"/>
            <a:ext cx="7772400" cy="44956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eveloping a software that integrate Weka and Database desig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1.Create a database and execute database opera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2.Automatically Looking for correlations based on the specific querie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3.People who do not have data mining and database knowledge can take advantage of these useful technolog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219320"/>
            <a:ext cx="7772400" cy="44956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1.http://mlearn.ics.uci.edu/MLRepository.html</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2.http://www.cacs.louisiana.edu/~arlab/repos/index.html</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3.M. Spiliopoulou. The laborious way from data mining to Web log mining. International Journal of Computer Systems Science and Engineering: Special Issue on Semantics of the Web, 14:113--126, March 1999.</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4. C Batini, S Ceri, SB Navathe,Conceptual database design: an Entity-relationship approach, 1991 - Benjamin-Cummings Publishing Co., Inc. Redwood City, CA, USA</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5. Data Mining: Concepts and Techniques, Second Edition Jiawei Han and Michelin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Unicode MS"/>
              </a:rPr>
              <a:t>6. http://grb.mnsu.edu/grbts/doc/manual/PART.htm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lun</cp:lastModifiedBy>
  <dcterms:modified xsi:type="dcterms:W3CDTF">2007-12-15T04:24:26Z</dcterms:modified>
  <cp:revision>45</cp:revision>
  <dc:subject/>
  <dc:title>PowerPoint Presentation</dc:title>
</cp:coreProperties>
</file>