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41B9-D657-4318-864E-BAFEBF18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2E30-6D72-4798-BEBB-4FEC604A3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7774-94F2-4055-888B-BF61F85C68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549A-6C5C-4C7B-AFA6-7C8F5FDEED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45CC-D40F-4321-93F7-5B772DF876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1779-AACC-47DB-BCD2-EE641E336E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7ADD-F445-418B-9B3A-80E26AE6A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3827-2E54-4042-985D-F59BF0475E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7FCB-7BC1-495F-B022-FA5EFE18DA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37D3-8D64-4E6F-81AF-B71242424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29F9-AF42-495F-B0B7-BABD88AC51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C3B2-E894-4F01-B25E-604BF17AC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E88-9C16-4310-A19F-57EAD7E0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961-EED9-4B09-A44D-33532B86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14D-03EC-4F7F-9F51-F741089E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F4F-6892-4985-8767-8862A618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5443-D2AB-4776-AE1A-4BD01A29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E6E9-7D80-4488-A71B-17D39CC6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8D01-0E49-43EB-B07B-1EE1FB35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6726-3F26-4277-8E38-4298F18A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6F1D-3556-48F0-870B-145C8668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C20E-A191-4FC6-891C-DCA73097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CC09-3385-4271-AFD8-58FF1CA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4C0-7109-49B5-ABFA-1AFF09B0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AA27-385A-4B7F-B87B-7BAED87D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8AC5-8172-466D-B296-E1064E26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2115-F8CC-4DE8-9E1C-82CEF567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3CD3-2F2D-4CFE-A249-2740645A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CB52-7343-48EC-88AB-0D283580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F3E-5EFC-4DDF-AEDB-7EBE5CAE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A8E-D0F1-4D1D-B6D8-1811693B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387-3255-4172-B636-76344A04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A78-28F1-48DB-B161-28D0217E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2020-7FFD-465C-A122-611B22C6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BB2-5034-42BF-ADFF-DB2D09C0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734-0C00-483A-AACC-19114F53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5510-B068-450A-830A-1CF4DE09D0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32CC-6892-438B-AD8A-61E37104E5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ff99"/>
                </a:solidFill>
                <a:latin typeface="Garamond"/>
              </a:rPr>
              <a:t>Classified/Auction system for selling new/used vehicles</a:t>
            </a:r>
            <a:endParaRPr b="0" lang="en-US" sz="52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kylbekova Yerkezha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anikop Trup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mirnov Gleb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Project Evaluation…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at we achie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ccessfully implemented all the functionalities we propos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What we could have done better …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cking a bogus user against a legitimate us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ifying the highest bidder after end of sa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ture the author of pictures or make only owner of the vehicle be able to add pic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ly units conversion to other pages, and for more metr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 more search options using technical characteristics besides year of produ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 users with more personal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blem stat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hitecture us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omposition into pa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 1:user re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 2:product re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 3:Application re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ject Evalu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Problem Statement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velop a web application “Motor Vehicle information system with auction and user-submitted materials features”. The end-user who is a registered site visitor (buyer/seller) would be able to access information on all cars manufactured by a number of predefined car manufacturers. In addition to simply locating the model name, the end-user could also view technical data on standard components, post and view comments and/or photos, place bids on cars for sale and/or sell cars, view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atistics and change metr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Architecture Used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rchitectur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ent-server archite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rver-MS IIS v5 with ASP.NET 2.0; DBMS (MS SQ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ent-compatible web brows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o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crosoft Visual Stud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S SQL 200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#.NET framework 2.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Decomposition to parts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 1:User Re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 2:Product re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t 3:Application rel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Part1:User Related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thentication to differentiate between admin and non-adm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n-admin registered user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low the non-admin but a registered user to bid for vehicles on sa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low non-admin to sell a vehicl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low a non-registered user to registe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low the non-registered user to view vehicle detail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min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low admin to add/modify/remove pre-defined manufacturer/mode/trim categor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low admin to view/delete comments and photos on trims and on vehicl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eck if a vehicle has reached the end of sale date and delete from databas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sure that the person not registered and has not logged in cannot access bids or sell the vehic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Part 2:Product Related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re are 4 levels of generalization used to narrow down vehicle search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. Manufacturer a.k.a. mak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ides general information on a manufactur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. Mod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ill general, but already excludes unrelated manufacturers &amp; model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ides a photograph but no technical specifica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ferentiates between different models with same model name using a production year-range suffix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. Tri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ides specific technical characteristics which define all vehicles derived from this tri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ferentiates technical parts based on their function, thus allowing greater re-us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 Vehic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pecific car with color, odometer reading, minimum price, et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Part 3 :Application Related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 and view pictur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able adding, viewing and deleting pict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trict user rights to perform some 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d and view com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able adding, viewing and deleting comments to vehicles or trims (taking into account user right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nerate and display statistical inf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most expensive vehi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d out most viewed vehi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d out most commented vehi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able unit convers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different metrics for length, weight and volu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Garamond"/>
              </a:rPr>
              <a:t>Project Evaluation</a:t>
            </a:r>
            <a:endParaRPr b="0" lang="en-US" sz="40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e propo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blem Stat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velop a web application “Motor Vehicle information system with auction and user-submitted materials features”. The end-user who is a registered site visitor (buyer/seller) would be able to access information on all cars manufactured by a number of predefined car manufacturers. In addition to simply locating the model name, the end-user could also view technical data on standard components, post and view comments and/or photos, place bids on cars for sale and/or sell cars, view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statistics and change metr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5:49:36Z</dcterms:created>
  <dc:creator>trupti</dc:creator>
  <dc:description/>
  <dc:language>en-US</dc:language>
  <cp:lastModifiedBy>Glebopotam</cp:lastModifiedBy>
  <dcterms:modified xsi:type="dcterms:W3CDTF">2007-12-13T09:45:16Z</dcterms:modified>
  <cp:revision>6</cp:revision>
  <dc:subject/>
  <dc:title>Classified/Auction system for selling new/used vehicles</dc:title>
</cp:coreProperties>
</file>